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bba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857A3D9-B852-4A98-8344-429BCA100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78AEF04-BDC2-4D0F-9939-18E067868664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48840" y="1628640"/>
            <a:ext cx="7643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48840" y="4148640"/>
            <a:ext cx="7643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8840" y="1628640"/>
            <a:ext cx="3729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640" y="1628640"/>
            <a:ext cx="3729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48840" y="4148640"/>
            <a:ext cx="3729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65640" y="4148640"/>
            <a:ext cx="3729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48840" y="1628640"/>
            <a:ext cx="2460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33280" y="1628640"/>
            <a:ext cx="2460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17720" y="1628640"/>
            <a:ext cx="2460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48840" y="4148640"/>
            <a:ext cx="2460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33280" y="4148640"/>
            <a:ext cx="2460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17720" y="4148640"/>
            <a:ext cx="2460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48840" y="1628640"/>
            <a:ext cx="764388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48840" y="1628640"/>
            <a:ext cx="7643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48840" y="1628640"/>
            <a:ext cx="37299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65640" y="1628640"/>
            <a:ext cx="37299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48840" y="1628640"/>
            <a:ext cx="3729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65640" y="1628640"/>
            <a:ext cx="37299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48840" y="4148640"/>
            <a:ext cx="3729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48840" y="1628640"/>
            <a:ext cx="764388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48840" y="1628640"/>
            <a:ext cx="37299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5640" y="1628640"/>
            <a:ext cx="3729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65640" y="4148640"/>
            <a:ext cx="3729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48840" y="1628640"/>
            <a:ext cx="3729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640" y="1628640"/>
            <a:ext cx="3729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48840" y="4148640"/>
            <a:ext cx="7643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48840" y="1628640"/>
            <a:ext cx="7643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48840" y="4148640"/>
            <a:ext cx="7643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48840" y="1628640"/>
            <a:ext cx="3729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640" y="1628640"/>
            <a:ext cx="3729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48840" y="4148640"/>
            <a:ext cx="3729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65640" y="4148640"/>
            <a:ext cx="3729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48840" y="1628640"/>
            <a:ext cx="2460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33280" y="1628640"/>
            <a:ext cx="2460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17720" y="1628640"/>
            <a:ext cx="2460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48840" y="4148640"/>
            <a:ext cx="2460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33280" y="4148640"/>
            <a:ext cx="2460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17720" y="4148640"/>
            <a:ext cx="2460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48840" y="1628640"/>
            <a:ext cx="7643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48840" y="1628640"/>
            <a:ext cx="37299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65640" y="1628640"/>
            <a:ext cx="37299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65530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48840" y="1628640"/>
            <a:ext cx="3729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5640" y="1628640"/>
            <a:ext cx="37299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48840" y="4148640"/>
            <a:ext cx="3729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48840" y="1628640"/>
            <a:ext cx="37299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640" y="1628640"/>
            <a:ext cx="3729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65640" y="4148640"/>
            <a:ext cx="3729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48840" y="1628640"/>
            <a:ext cx="3729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640" y="1628640"/>
            <a:ext cx="37299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48840" y="4148640"/>
            <a:ext cx="7643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bb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48840" y="1628640"/>
            <a:ext cx="7643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bb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48840" y="1628640"/>
            <a:ext cx="7643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1"/>
          <p:cNvGrpSpPr/>
          <p:nvPr/>
        </p:nvGrpSpPr>
        <p:grpSpPr>
          <a:xfrm>
            <a:off x="430200" y="1091880"/>
            <a:ext cx="4952880" cy="4921200"/>
            <a:chOff x="430200" y="1091880"/>
            <a:chExt cx="4952880" cy="4921200"/>
          </a:xfrm>
        </p:grpSpPr>
        <p:pic>
          <p:nvPicPr>
            <p:cNvPr id="84" name="Picture 23" descr=""/>
            <p:cNvPicPr/>
            <p:nvPr/>
          </p:nvPicPr>
          <p:blipFill>
            <a:blip r:embed="rId1"/>
            <a:srcRect l="0" t="4333" r="0" b="0"/>
            <a:stretch/>
          </p:blipFill>
          <p:spPr>
            <a:xfrm>
              <a:off x="1290960" y="2199240"/>
              <a:ext cx="703800" cy="75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2" descr=""/>
            <p:cNvPicPr/>
            <p:nvPr/>
          </p:nvPicPr>
          <p:blipFill>
            <a:blip r:embed="rId2"/>
            <a:stretch/>
          </p:blipFill>
          <p:spPr>
            <a:xfrm>
              <a:off x="2409840" y="2193120"/>
              <a:ext cx="791640" cy="7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7" descr=""/>
            <p:cNvPicPr/>
            <p:nvPr/>
          </p:nvPicPr>
          <p:blipFill>
            <a:blip r:embed="rId3"/>
            <a:stretch/>
          </p:blipFill>
          <p:spPr>
            <a:xfrm>
              <a:off x="3592080" y="2284560"/>
              <a:ext cx="103932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4"/>
            <p:cNvSpPr/>
            <p:nvPr/>
          </p:nvSpPr>
          <p:spPr>
            <a:xfrm>
              <a:off x="557280" y="1091880"/>
              <a:ext cx="4561920" cy="13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2100" spc="-1" strike="noStrike">
                  <a:solidFill>
                    <a:srgbClr val="5f5f5f"/>
                  </a:solidFill>
                  <a:latin typeface="Times New Roman"/>
                  <a:ea typeface="Calibri"/>
                </a:rPr>
                <a:t>Advanced Manufacturing and Integrated Photonics Certificate Program (AMIP)</a:t>
              </a:r>
              <a:endParaRPr b="0" lang="en-US" sz="21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" name="Rectangle 5"/>
            <p:cNvSpPr/>
            <p:nvPr/>
          </p:nvSpPr>
          <p:spPr>
            <a:xfrm>
              <a:off x="430200" y="3021120"/>
              <a:ext cx="495288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Times New Roman"/>
                  <a:ea typeface="Calibri"/>
                </a:rPr>
                <a:t>Developed by Stonehill College and Bridgewater State University, in cooperation with the Initiative for Knowledge and Innovation in Manufacturing at MIT, with funding from the Office of Naval Research (grant # N00014-18-1-2890)</a:t>
              </a:r>
              <a:endParaRPr b="0" lang="en-US" sz="10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Times New Roman"/>
                  <a:ea typeface="Calibri"/>
                </a:rPr>
                <a:t>All materials may be freely used, reproduced, and adapted, provided that credit is properly attributed to the AMIP consortium and to the specific author of this course module.</a:t>
              </a:r>
              <a:endParaRPr b="0" lang="en-US" sz="10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469080" y="4024080"/>
              <a:ext cx="480996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sp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  <a:ea typeface="Calibri"/>
                </a:rPr>
                <a:t>Course module: Introduction to Advanced </a:t>
              </a:r>
              <a:r>
                <a:rPr b="1" lang="en-US" sz="1800" spc="-1" strike="noStrike">
                  <a:solidFill>
                    <a:srgbClr val="5f5f5f"/>
                  </a:solidFill>
                  <a:latin typeface="Arial"/>
                  <a:ea typeface="Calibri"/>
                </a:rPr>
                <a:t>	</a:t>
              </a:r>
              <a:r>
                <a:rPr b="1" lang="en-US" sz="1800" spc="-1" strike="noStrike">
                  <a:solidFill>
                    <a:srgbClr val="5f5f5f"/>
                  </a:solidFill>
                  <a:latin typeface="Arial"/>
                  <a:ea typeface="Calibri"/>
                </a:rPr>
                <a:t>	</a:t>
              </a:r>
              <a:r>
                <a:rPr b="1" lang="en-US" sz="1800" spc="-1" strike="noStrike">
                  <a:solidFill>
                    <a:srgbClr val="5f5f5f"/>
                  </a:solidFill>
                  <a:latin typeface="Arial"/>
                  <a:ea typeface="Calibri"/>
                </a:rPr>
                <a:t>	</a:t>
              </a:r>
              <a:r>
                <a:rPr b="1" lang="en-US" sz="1800" spc="-1" strike="noStrike">
                  <a:solidFill>
                    <a:srgbClr val="5f5f5f"/>
                  </a:solidFill>
                  <a:latin typeface="Arial"/>
                  <a:ea typeface="Calibri"/>
                </a:rPr>
                <a:t>Manufacturing and Photonics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  <a:ea typeface="Times New Roman"/>
                </a:rPr>
                <a:t>Topic number: 5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  <a:ea typeface="Times New Roman"/>
                </a:rPr>
                <a:t>Title: Statistics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  <a:ea typeface="Times New Roman"/>
                </a:rPr>
                <a:t>Author: Abraham Michelen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bject 3"/>
          <p:cNvSpPr/>
          <p:nvPr/>
        </p:nvSpPr>
        <p:spPr>
          <a:xfrm>
            <a:off x="536400" y="1252440"/>
            <a:ext cx="792036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spAutoFit/>
          </a:bodyPr>
          <a:p>
            <a:pPr marL="279360" indent="-266760">
              <a:lnSpc>
                <a:spcPts val="3098"/>
              </a:lnSpc>
              <a:spcBef>
                <a:spcPts val="224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In a normal distribution, the mean, median, and mode will  be approximately equal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object 4"/>
          <p:cNvSpPr/>
          <p:nvPr/>
        </p:nvSpPr>
        <p:spPr>
          <a:xfrm>
            <a:off x="4338720" y="4692600"/>
            <a:ext cx="141120" cy="360"/>
          </a:xfrm>
          <a:custGeom>
            <a:avLst/>
            <a:gdLst/>
            <a:ahLst/>
            <a:rect l="l" t="t" r="r" b="b"/>
            <a:pathLst>
              <a:path w="141604" h="0">
                <a:moveTo>
                  <a:pt x="0" y="0"/>
                </a:moveTo>
                <a:lnTo>
                  <a:pt x="141366" y="0"/>
                </a:lnTo>
              </a:path>
            </a:pathLst>
          </a:custGeom>
          <a:noFill/>
          <a:ln w="1080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object 5"/>
          <p:cNvSpPr/>
          <p:nvPr/>
        </p:nvSpPr>
        <p:spPr>
          <a:xfrm>
            <a:off x="4076640" y="4519440"/>
            <a:ext cx="550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 indent="25560" algn="ctr">
              <a:lnSpc>
                <a:spcPct val="119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64653"/>
                </a:solidFill>
                <a:latin typeface="Tahoma"/>
                <a:ea typeface="Tahoma"/>
              </a:rPr>
              <a:t>x  Med  Mo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object 6"/>
          <p:cNvSpPr/>
          <p:nvPr/>
        </p:nvSpPr>
        <p:spPr>
          <a:xfrm>
            <a:off x="2424240" y="3083040"/>
            <a:ext cx="3911400" cy="1511280"/>
          </a:xfrm>
          <a:custGeom>
            <a:avLst/>
            <a:gdLst/>
            <a:ahLst/>
            <a:rect l="l" t="t" r="r" b="b"/>
            <a:pathLst>
              <a:path w="3911600" h="1511300">
                <a:moveTo>
                  <a:pt x="3898522" y="1498600"/>
                </a:moveTo>
                <a:lnTo>
                  <a:pt x="12614" y="1498600"/>
                </a:lnTo>
                <a:lnTo>
                  <a:pt x="0" y="1511300"/>
                </a:lnTo>
                <a:lnTo>
                  <a:pt x="3911198" y="1511300"/>
                </a:lnTo>
                <a:lnTo>
                  <a:pt x="3898522" y="1498600"/>
                </a:lnTo>
                <a:close/>
              </a:path>
              <a:path w="3911600" h="1511300">
                <a:moveTo>
                  <a:pt x="3747165" y="1485900"/>
                </a:moveTo>
                <a:lnTo>
                  <a:pt x="164017" y="1485900"/>
                </a:lnTo>
                <a:lnTo>
                  <a:pt x="151418" y="1498600"/>
                </a:lnTo>
                <a:lnTo>
                  <a:pt x="3759766" y="1498600"/>
                </a:lnTo>
                <a:lnTo>
                  <a:pt x="3747165" y="1485900"/>
                </a:lnTo>
                <a:close/>
              </a:path>
              <a:path w="3911600" h="1511300">
                <a:moveTo>
                  <a:pt x="3658810" y="1473200"/>
                </a:moveTo>
                <a:lnTo>
                  <a:pt x="252295" y="1473200"/>
                </a:lnTo>
                <a:lnTo>
                  <a:pt x="239695" y="1485900"/>
                </a:lnTo>
                <a:lnTo>
                  <a:pt x="3671487" y="1485900"/>
                </a:lnTo>
                <a:lnTo>
                  <a:pt x="3658810" y="1473200"/>
                </a:lnTo>
                <a:close/>
              </a:path>
              <a:path w="3911600" h="1511300">
                <a:moveTo>
                  <a:pt x="3595733" y="1460500"/>
                </a:moveTo>
                <a:lnTo>
                  <a:pt x="315451" y="1460500"/>
                </a:lnTo>
                <a:lnTo>
                  <a:pt x="302774" y="1473200"/>
                </a:lnTo>
                <a:lnTo>
                  <a:pt x="3608332" y="1473200"/>
                </a:lnTo>
                <a:lnTo>
                  <a:pt x="3595733" y="1460500"/>
                </a:lnTo>
                <a:close/>
              </a:path>
              <a:path w="3911600" h="1511300">
                <a:moveTo>
                  <a:pt x="3532654" y="1447800"/>
                </a:moveTo>
                <a:lnTo>
                  <a:pt x="378528" y="1447800"/>
                </a:lnTo>
                <a:lnTo>
                  <a:pt x="365851" y="1460500"/>
                </a:lnTo>
                <a:lnTo>
                  <a:pt x="3545254" y="1460500"/>
                </a:lnTo>
                <a:lnTo>
                  <a:pt x="3532654" y="1447800"/>
                </a:lnTo>
                <a:close/>
              </a:path>
              <a:path w="3911600" h="1511300">
                <a:moveTo>
                  <a:pt x="3494854" y="1435100"/>
                </a:moveTo>
                <a:lnTo>
                  <a:pt x="416328" y="1435100"/>
                </a:lnTo>
                <a:lnTo>
                  <a:pt x="403729" y="1447800"/>
                </a:lnTo>
                <a:lnTo>
                  <a:pt x="3507454" y="1447800"/>
                </a:lnTo>
                <a:lnTo>
                  <a:pt x="3494854" y="1435100"/>
                </a:lnTo>
                <a:close/>
              </a:path>
              <a:path w="3911600" h="1511300">
                <a:moveTo>
                  <a:pt x="3456976" y="1422400"/>
                </a:moveTo>
                <a:lnTo>
                  <a:pt x="454206" y="1422400"/>
                </a:lnTo>
                <a:lnTo>
                  <a:pt x="441606" y="1435100"/>
                </a:lnTo>
                <a:lnTo>
                  <a:pt x="3469576" y="1435100"/>
                </a:lnTo>
                <a:lnTo>
                  <a:pt x="3456976" y="1422400"/>
                </a:lnTo>
                <a:close/>
              </a:path>
              <a:path w="3911600" h="1511300">
                <a:moveTo>
                  <a:pt x="3419099" y="1409700"/>
                </a:moveTo>
                <a:lnTo>
                  <a:pt x="492084" y="1409700"/>
                </a:lnTo>
                <a:lnTo>
                  <a:pt x="479407" y="1422400"/>
                </a:lnTo>
                <a:lnTo>
                  <a:pt x="3431700" y="1422400"/>
                </a:lnTo>
                <a:lnTo>
                  <a:pt x="3419099" y="1409700"/>
                </a:lnTo>
                <a:close/>
              </a:path>
              <a:path w="3911600" h="1511300">
                <a:moveTo>
                  <a:pt x="3381298" y="1397000"/>
                </a:moveTo>
                <a:lnTo>
                  <a:pt x="529884" y="1397000"/>
                </a:lnTo>
                <a:lnTo>
                  <a:pt x="517284" y="1409700"/>
                </a:lnTo>
                <a:lnTo>
                  <a:pt x="3393898" y="1409700"/>
                </a:lnTo>
                <a:lnTo>
                  <a:pt x="3381298" y="1397000"/>
                </a:lnTo>
                <a:close/>
              </a:path>
              <a:path w="3911600" h="1511300">
                <a:moveTo>
                  <a:pt x="3356021" y="1384300"/>
                </a:moveTo>
                <a:lnTo>
                  <a:pt x="555162" y="1384300"/>
                </a:lnTo>
                <a:lnTo>
                  <a:pt x="542485" y="1397000"/>
                </a:lnTo>
                <a:lnTo>
                  <a:pt x="3368621" y="1397000"/>
                </a:lnTo>
                <a:lnTo>
                  <a:pt x="3356021" y="1384300"/>
                </a:lnTo>
                <a:close/>
              </a:path>
              <a:path w="3911600" h="1511300">
                <a:moveTo>
                  <a:pt x="3330821" y="1371600"/>
                </a:moveTo>
                <a:lnTo>
                  <a:pt x="580363" y="1371600"/>
                </a:lnTo>
                <a:lnTo>
                  <a:pt x="567762" y="1384300"/>
                </a:lnTo>
                <a:lnTo>
                  <a:pt x="3343421" y="1384300"/>
                </a:lnTo>
                <a:lnTo>
                  <a:pt x="3330821" y="1371600"/>
                </a:lnTo>
                <a:close/>
              </a:path>
              <a:path w="3911600" h="1511300">
                <a:moveTo>
                  <a:pt x="3305544" y="1358900"/>
                </a:moveTo>
                <a:lnTo>
                  <a:pt x="605562" y="1358900"/>
                </a:lnTo>
                <a:lnTo>
                  <a:pt x="592963" y="1371600"/>
                </a:lnTo>
                <a:lnTo>
                  <a:pt x="3318220" y="1371600"/>
                </a:lnTo>
                <a:lnTo>
                  <a:pt x="3305544" y="1358900"/>
                </a:lnTo>
                <a:close/>
              </a:path>
              <a:path w="3911600" h="1511300">
                <a:moveTo>
                  <a:pt x="3280342" y="1346200"/>
                </a:moveTo>
                <a:lnTo>
                  <a:pt x="630840" y="1346200"/>
                </a:lnTo>
                <a:lnTo>
                  <a:pt x="618239" y="1358900"/>
                </a:lnTo>
                <a:lnTo>
                  <a:pt x="3292943" y="1358900"/>
                </a:lnTo>
                <a:lnTo>
                  <a:pt x="3280342" y="1346200"/>
                </a:lnTo>
                <a:close/>
              </a:path>
              <a:path w="3911600" h="1511300">
                <a:moveTo>
                  <a:pt x="3255065" y="1333500"/>
                </a:moveTo>
                <a:lnTo>
                  <a:pt x="656041" y="1333500"/>
                </a:lnTo>
                <a:lnTo>
                  <a:pt x="643440" y="1346200"/>
                </a:lnTo>
                <a:lnTo>
                  <a:pt x="3267743" y="1346200"/>
                </a:lnTo>
                <a:lnTo>
                  <a:pt x="3255065" y="1333500"/>
                </a:lnTo>
                <a:close/>
              </a:path>
              <a:path w="3911600" h="1511300">
                <a:moveTo>
                  <a:pt x="3217265" y="1308100"/>
                </a:moveTo>
                <a:lnTo>
                  <a:pt x="693919" y="1308100"/>
                </a:lnTo>
                <a:lnTo>
                  <a:pt x="668718" y="1333500"/>
                </a:lnTo>
                <a:lnTo>
                  <a:pt x="3242466" y="1333500"/>
                </a:lnTo>
                <a:lnTo>
                  <a:pt x="3217265" y="1308100"/>
                </a:lnTo>
                <a:close/>
              </a:path>
              <a:path w="3911600" h="1511300">
                <a:moveTo>
                  <a:pt x="3179387" y="1282700"/>
                </a:moveTo>
                <a:lnTo>
                  <a:pt x="731795" y="1282700"/>
                </a:lnTo>
                <a:lnTo>
                  <a:pt x="706518" y="1308100"/>
                </a:lnTo>
                <a:lnTo>
                  <a:pt x="3204664" y="1308100"/>
                </a:lnTo>
                <a:lnTo>
                  <a:pt x="3179387" y="1282700"/>
                </a:lnTo>
                <a:close/>
              </a:path>
              <a:path w="3911600" h="1511300">
                <a:moveTo>
                  <a:pt x="3128910" y="1244600"/>
                </a:moveTo>
                <a:lnTo>
                  <a:pt x="782196" y="1244600"/>
                </a:lnTo>
                <a:lnTo>
                  <a:pt x="744396" y="1282700"/>
                </a:lnTo>
                <a:lnTo>
                  <a:pt x="3166788" y="1282700"/>
                </a:lnTo>
                <a:lnTo>
                  <a:pt x="3128910" y="1244600"/>
                </a:lnTo>
                <a:close/>
              </a:path>
              <a:path w="3911600" h="1511300">
                <a:moveTo>
                  <a:pt x="2195264" y="101600"/>
                </a:moveTo>
                <a:lnTo>
                  <a:pt x="1715842" y="101600"/>
                </a:lnTo>
                <a:lnTo>
                  <a:pt x="1602286" y="215900"/>
                </a:lnTo>
                <a:lnTo>
                  <a:pt x="1589685" y="241300"/>
                </a:lnTo>
                <a:lnTo>
                  <a:pt x="1539208" y="292100"/>
                </a:lnTo>
                <a:lnTo>
                  <a:pt x="1526608" y="317500"/>
                </a:lnTo>
                <a:lnTo>
                  <a:pt x="1501407" y="342900"/>
                </a:lnTo>
                <a:lnTo>
                  <a:pt x="1488730" y="368300"/>
                </a:lnTo>
                <a:lnTo>
                  <a:pt x="1463530" y="393700"/>
                </a:lnTo>
                <a:lnTo>
                  <a:pt x="1450930" y="419100"/>
                </a:lnTo>
                <a:lnTo>
                  <a:pt x="1425652" y="457200"/>
                </a:lnTo>
                <a:lnTo>
                  <a:pt x="1400451" y="482600"/>
                </a:lnTo>
                <a:lnTo>
                  <a:pt x="1387852" y="508000"/>
                </a:lnTo>
                <a:lnTo>
                  <a:pt x="1375252" y="520700"/>
                </a:lnTo>
                <a:lnTo>
                  <a:pt x="1362575" y="546100"/>
                </a:lnTo>
                <a:lnTo>
                  <a:pt x="1349974" y="558800"/>
                </a:lnTo>
                <a:lnTo>
                  <a:pt x="1324775" y="596900"/>
                </a:lnTo>
                <a:lnTo>
                  <a:pt x="1312097" y="622300"/>
                </a:lnTo>
                <a:lnTo>
                  <a:pt x="1299497" y="635000"/>
                </a:lnTo>
                <a:lnTo>
                  <a:pt x="1274296" y="673100"/>
                </a:lnTo>
                <a:lnTo>
                  <a:pt x="1261696" y="685800"/>
                </a:lnTo>
                <a:lnTo>
                  <a:pt x="1236418" y="723900"/>
                </a:lnTo>
                <a:lnTo>
                  <a:pt x="1223818" y="749300"/>
                </a:lnTo>
                <a:lnTo>
                  <a:pt x="1198618" y="774700"/>
                </a:lnTo>
                <a:lnTo>
                  <a:pt x="1185941" y="800100"/>
                </a:lnTo>
                <a:lnTo>
                  <a:pt x="1173341" y="812800"/>
                </a:lnTo>
                <a:lnTo>
                  <a:pt x="1160740" y="838200"/>
                </a:lnTo>
                <a:lnTo>
                  <a:pt x="1148140" y="850900"/>
                </a:lnTo>
                <a:lnTo>
                  <a:pt x="1122864" y="889000"/>
                </a:lnTo>
                <a:lnTo>
                  <a:pt x="1085062" y="927100"/>
                </a:lnTo>
                <a:lnTo>
                  <a:pt x="1072385" y="952500"/>
                </a:lnTo>
                <a:lnTo>
                  <a:pt x="1034585" y="990600"/>
                </a:lnTo>
                <a:lnTo>
                  <a:pt x="1021985" y="1016000"/>
                </a:lnTo>
                <a:lnTo>
                  <a:pt x="794873" y="1244600"/>
                </a:lnTo>
                <a:lnTo>
                  <a:pt x="3116309" y="1244600"/>
                </a:lnTo>
                <a:lnTo>
                  <a:pt x="2889199" y="1016000"/>
                </a:lnTo>
                <a:lnTo>
                  <a:pt x="2876598" y="990600"/>
                </a:lnTo>
                <a:lnTo>
                  <a:pt x="2838721" y="952500"/>
                </a:lnTo>
                <a:lnTo>
                  <a:pt x="2826120" y="927100"/>
                </a:lnTo>
                <a:lnTo>
                  <a:pt x="2788320" y="889000"/>
                </a:lnTo>
                <a:lnTo>
                  <a:pt x="2775643" y="863600"/>
                </a:lnTo>
                <a:lnTo>
                  <a:pt x="2750442" y="838200"/>
                </a:lnTo>
                <a:lnTo>
                  <a:pt x="2725166" y="800100"/>
                </a:lnTo>
                <a:lnTo>
                  <a:pt x="2712565" y="774700"/>
                </a:lnTo>
                <a:lnTo>
                  <a:pt x="2687364" y="749300"/>
                </a:lnTo>
                <a:lnTo>
                  <a:pt x="2662087" y="711200"/>
                </a:lnTo>
                <a:lnTo>
                  <a:pt x="2649487" y="685800"/>
                </a:lnTo>
                <a:lnTo>
                  <a:pt x="2636887" y="673100"/>
                </a:lnTo>
                <a:lnTo>
                  <a:pt x="2611687" y="635000"/>
                </a:lnTo>
                <a:lnTo>
                  <a:pt x="2599009" y="622300"/>
                </a:lnTo>
                <a:lnTo>
                  <a:pt x="2561209" y="558800"/>
                </a:lnTo>
                <a:lnTo>
                  <a:pt x="2548531" y="546100"/>
                </a:lnTo>
                <a:lnTo>
                  <a:pt x="2523331" y="508000"/>
                </a:lnTo>
                <a:lnTo>
                  <a:pt x="2510731" y="482600"/>
                </a:lnTo>
                <a:lnTo>
                  <a:pt x="2485453" y="457200"/>
                </a:lnTo>
                <a:lnTo>
                  <a:pt x="2472853" y="431800"/>
                </a:lnTo>
                <a:lnTo>
                  <a:pt x="2460254" y="419100"/>
                </a:lnTo>
                <a:lnTo>
                  <a:pt x="2447653" y="393700"/>
                </a:lnTo>
                <a:lnTo>
                  <a:pt x="2422376" y="368300"/>
                </a:lnTo>
                <a:lnTo>
                  <a:pt x="2409775" y="342900"/>
                </a:lnTo>
                <a:lnTo>
                  <a:pt x="2384574" y="317500"/>
                </a:lnTo>
                <a:lnTo>
                  <a:pt x="2371898" y="292100"/>
                </a:lnTo>
                <a:lnTo>
                  <a:pt x="2321497" y="241300"/>
                </a:lnTo>
                <a:lnTo>
                  <a:pt x="2308820" y="215900"/>
                </a:lnTo>
                <a:lnTo>
                  <a:pt x="2195264" y="101600"/>
                </a:lnTo>
                <a:close/>
              </a:path>
              <a:path w="3911600" h="1511300">
                <a:moveTo>
                  <a:pt x="2144863" y="63500"/>
                </a:moveTo>
                <a:lnTo>
                  <a:pt x="1766319" y="63500"/>
                </a:lnTo>
                <a:lnTo>
                  <a:pt x="1728519" y="101600"/>
                </a:lnTo>
                <a:lnTo>
                  <a:pt x="2182665" y="101600"/>
                </a:lnTo>
                <a:lnTo>
                  <a:pt x="2144863" y="63500"/>
                </a:lnTo>
                <a:close/>
              </a:path>
              <a:path w="3911600" h="1511300">
                <a:moveTo>
                  <a:pt x="2119586" y="50800"/>
                </a:moveTo>
                <a:lnTo>
                  <a:pt x="1791596" y="50800"/>
                </a:lnTo>
                <a:lnTo>
                  <a:pt x="1778919" y="63500"/>
                </a:lnTo>
                <a:lnTo>
                  <a:pt x="2132186" y="63500"/>
                </a:lnTo>
                <a:lnTo>
                  <a:pt x="2119586" y="50800"/>
                </a:lnTo>
                <a:close/>
              </a:path>
              <a:path w="3911600" h="1511300">
                <a:moveTo>
                  <a:pt x="2081786" y="25400"/>
                </a:moveTo>
                <a:lnTo>
                  <a:pt x="1829398" y="25400"/>
                </a:lnTo>
                <a:lnTo>
                  <a:pt x="1804197" y="50800"/>
                </a:lnTo>
                <a:lnTo>
                  <a:pt x="2106985" y="50800"/>
                </a:lnTo>
                <a:lnTo>
                  <a:pt x="2081786" y="25400"/>
                </a:lnTo>
                <a:close/>
              </a:path>
              <a:path w="3911600" h="1511300">
                <a:moveTo>
                  <a:pt x="2043908" y="12700"/>
                </a:moveTo>
                <a:lnTo>
                  <a:pt x="1867274" y="12700"/>
                </a:lnTo>
                <a:lnTo>
                  <a:pt x="1854674" y="25400"/>
                </a:lnTo>
                <a:lnTo>
                  <a:pt x="2056508" y="25400"/>
                </a:lnTo>
                <a:lnTo>
                  <a:pt x="2043908" y="12700"/>
                </a:lnTo>
                <a:close/>
              </a:path>
              <a:path w="3911600" h="1511300">
                <a:moveTo>
                  <a:pt x="1993431" y="0"/>
                </a:moveTo>
                <a:lnTo>
                  <a:pt x="1917753" y="0"/>
                </a:lnTo>
                <a:lnTo>
                  <a:pt x="1905152" y="12700"/>
                </a:lnTo>
                <a:lnTo>
                  <a:pt x="2006031" y="12700"/>
                </a:lnTo>
                <a:lnTo>
                  <a:pt x="1993431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object 7"/>
          <p:cNvSpPr/>
          <p:nvPr/>
        </p:nvSpPr>
        <p:spPr>
          <a:xfrm>
            <a:off x="1855800" y="4591080"/>
            <a:ext cx="5059440" cy="360"/>
          </a:xfrm>
          <a:custGeom>
            <a:avLst/>
            <a:gdLst/>
            <a:ahLst/>
            <a:rect l="l" t="t" r="r" b="b"/>
            <a:pathLst>
              <a:path w="5059680" h="0">
                <a:moveTo>
                  <a:pt x="0" y="0"/>
                </a:moveTo>
                <a:lnTo>
                  <a:pt x="5059333" y="0"/>
                </a:lnTo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object 8"/>
          <p:cNvSpPr/>
          <p:nvPr/>
        </p:nvSpPr>
        <p:spPr>
          <a:xfrm>
            <a:off x="4379760" y="3051000"/>
            <a:ext cx="360" cy="1597320"/>
          </a:xfrm>
          <a:custGeom>
            <a:avLst/>
            <a:gdLst/>
            <a:ahLst/>
            <a:rect l="l" t="t" r="r" b="b"/>
            <a:pathLst>
              <a:path w="0" h="1597660">
                <a:moveTo>
                  <a:pt x="0" y="0"/>
                </a:moveTo>
                <a:lnTo>
                  <a:pt x="1" y="1597406"/>
                </a:lnTo>
              </a:path>
            </a:pathLst>
          </a:custGeom>
          <a:noFill/>
          <a:ln w="9360">
            <a:solidFill>
              <a:srgbClr val="e3ed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Date Placeholder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D6E2-81C7-47C3-9C42-3460DB0A6A9C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7400" y="504720"/>
            <a:ext cx="810900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2bba"/>
                </a:solidFill>
                <a:latin typeface="Arial"/>
              </a:rPr>
              <a:t>Distribution Shape and Central Tendency</a:t>
            </a:r>
            <a:endParaRPr b="1" lang="en-US" sz="2800" spc="-1" strike="noStrike">
              <a:solidFill>
                <a:srgbClr val="042b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8560" y="1440"/>
            <a:ext cx="6553080" cy="159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500400" bIns="0" anchor="ctr">
            <a:noAutofit/>
          </a:bodyPr>
          <a:p>
            <a:pPr marL="12600" indent="0">
              <a:spcBef>
                <a:spcPts val="99"/>
              </a:spcBef>
              <a:buNone/>
              <a:tabLst>
                <a:tab algn="l" pos="0"/>
                <a:tab algn="l" pos="824076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Skewed Distribution</a:t>
            </a: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125" name="object 3"/>
          <p:cNvSpPr/>
          <p:nvPr/>
        </p:nvSpPr>
        <p:spPr>
          <a:xfrm>
            <a:off x="536400" y="1252440"/>
            <a:ext cx="767268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spAutoFit/>
          </a:bodyPr>
          <a:p>
            <a:pPr marL="279360" indent="-266760" algn="just">
              <a:lnSpc>
                <a:spcPts val="3098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In a skewed distribution, the mode will be the peak, the  mean will be pulled toward the tail, and the median will  fall in the middle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object 4"/>
          <p:cNvSpPr/>
          <p:nvPr/>
        </p:nvSpPr>
        <p:spPr>
          <a:xfrm>
            <a:off x="4599000" y="5226120"/>
            <a:ext cx="157320" cy="360"/>
          </a:xfrm>
          <a:custGeom>
            <a:avLst/>
            <a:gdLst/>
            <a:ahLst/>
            <a:rect l="l" t="t" r="r" b="b"/>
            <a:pathLst>
              <a:path w="156845" h="0">
                <a:moveTo>
                  <a:pt x="0" y="0"/>
                </a:moveTo>
                <a:lnTo>
                  <a:pt x="156388" y="0"/>
                </a:lnTo>
              </a:path>
            </a:pathLst>
          </a:custGeom>
          <a:noFill/>
          <a:ln w="12600">
            <a:solidFill>
              <a:srgbClr val="4646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object 5"/>
          <p:cNvSpPr/>
          <p:nvPr/>
        </p:nvSpPr>
        <p:spPr>
          <a:xfrm>
            <a:off x="3276720" y="5110200"/>
            <a:ext cx="1436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98600"/>
                <a:tab algn="l" pos="1265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 baseline="1000">
                <a:solidFill>
                  <a:srgbClr val="464653"/>
                </a:solidFill>
                <a:latin typeface="Tahoma"/>
                <a:ea typeface="Tahoma"/>
              </a:rPr>
              <a:t>Mo</a:t>
            </a:r>
            <a:r>
              <a:rPr b="0" i="1" lang="ru-RU" sz="3300" spc="-1" strike="noStrike" baseline="1000">
                <a:solidFill>
                  <a:srgbClr val="464653"/>
                </a:solidFill>
                <a:latin typeface="Tahoma"/>
                <a:ea typeface="Tahoma"/>
              </a:rPr>
              <a:t>	</a:t>
            </a:r>
            <a:r>
              <a:rPr b="0" i="1" lang="ru-RU" sz="3300" spc="-1" strike="noStrike" baseline="1000">
                <a:solidFill>
                  <a:srgbClr val="464653"/>
                </a:solidFill>
                <a:latin typeface="Tahoma"/>
                <a:ea typeface="Tahoma"/>
              </a:rPr>
              <a:t>Med</a:t>
            </a:r>
            <a:r>
              <a:rPr b="0" i="1" lang="ru-RU" sz="3300" spc="-1" strike="noStrike" baseline="1000">
                <a:solidFill>
                  <a:srgbClr val="464653"/>
                </a:solidFill>
                <a:latin typeface="Tahoma"/>
                <a:ea typeface="Tahoma"/>
              </a:rPr>
              <a:t>	</a:t>
            </a:r>
            <a:r>
              <a:rPr b="0" i="1" lang="ru-RU" sz="2500" spc="-1" strike="noStrike">
                <a:solidFill>
                  <a:srgbClr val="464653"/>
                </a:solidFill>
                <a:latin typeface="Tahoma"/>
                <a:ea typeface="Tahoma"/>
              </a:rPr>
              <a:t>x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" name="object 6"/>
          <p:cNvSpPr/>
          <p:nvPr/>
        </p:nvSpPr>
        <p:spPr>
          <a:xfrm>
            <a:off x="2944800" y="3524400"/>
            <a:ext cx="3454560" cy="1458720"/>
          </a:xfrm>
          <a:custGeom>
            <a:avLst/>
            <a:gdLst/>
            <a:ahLst/>
            <a:rect l="l" t="t" r="r" b="b"/>
            <a:pathLst>
              <a:path w="3454400" h="1458595">
                <a:moveTo>
                  <a:pt x="610473" y="2698"/>
                </a:moveTo>
                <a:lnTo>
                  <a:pt x="539535" y="2698"/>
                </a:lnTo>
                <a:lnTo>
                  <a:pt x="527747" y="5363"/>
                </a:lnTo>
                <a:lnTo>
                  <a:pt x="519854" y="8061"/>
                </a:lnTo>
                <a:lnTo>
                  <a:pt x="508066" y="13423"/>
                </a:lnTo>
                <a:lnTo>
                  <a:pt x="496277" y="16123"/>
                </a:lnTo>
                <a:lnTo>
                  <a:pt x="472544" y="26957"/>
                </a:lnTo>
                <a:lnTo>
                  <a:pt x="460703" y="35018"/>
                </a:lnTo>
                <a:lnTo>
                  <a:pt x="448915" y="40380"/>
                </a:lnTo>
                <a:lnTo>
                  <a:pt x="437112" y="51142"/>
                </a:lnTo>
                <a:lnTo>
                  <a:pt x="425307" y="59204"/>
                </a:lnTo>
                <a:lnTo>
                  <a:pt x="401706" y="80690"/>
                </a:lnTo>
                <a:lnTo>
                  <a:pt x="378098" y="107647"/>
                </a:lnTo>
                <a:lnTo>
                  <a:pt x="370225" y="121071"/>
                </a:lnTo>
                <a:lnTo>
                  <a:pt x="346492" y="153391"/>
                </a:lnTo>
                <a:lnTo>
                  <a:pt x="322884" y="191001"/>
                </a:lnTo>
                <a:lnTo>
                  <a:pt x="287473" y="255676"/>
                </a:lnTo>
                <a:lnTo>
                  <a:pt x="275670" y="282525"/>
                </a:lnTo>
                <a:lnTo>
                  <a:pt x="263865" y="306710"/>
                </a:lnTo>
                <a:lnTo>
                  <a:pt x="240263" y="365987"/>
                </a:lnTo>
                <a:lnTo>
                  <a:pt x="228328" y="395535"/>
                </a:lnTo>
                <a:lnTo>
                  <a:pt x="220455" y="427854"/>
                </a:lnTo>
                <a:lnTo>
                  <a:pt x="185050" y="538201"/>
                </a:lnTo>
                <a:lnTo>
                  <a:pt x="161442" y="618892"/>
                </a:lnTo>
                <a:lnTo>
                  <a:pt x="137834" y="710415"/>
                </a:lnTo>
                <a:lnTo>
                  <a:pt x="126030" y="758751"/>
                </a:lnTo>
                <a:lnTo>
                  <a:pt x="114095" y="809892"/>
                </a:lnTo>
                <a:lnTo>
                  <a:pt x="90488" y="917540"/>
                </a:lnTo>
                <a:lnTo>
                  <a:pt x="78689" y="976745"/>
                </a:lnTo>
                <a:lnTo>
                  <a:pt x="70817" y="1035913"/>
                </a:lnTo>
                <a:lnTo>
                  <a:pt x="47209" y="1165144"/>
                </a:lnTo>
                <a:lnTo>
                  <a:pt x="23608" y="1305025"/>
                </a:lnTo>
                <a:lnTo>
                  <a:pt x="11803" y="1380335"/>
                </a:lnTo>
                <a:lnTo>
                  <a:pt x="0" y="1458423"/>
                </a:lnTo>
                <a:lnTo>
                  <a:pt x="3454158" y="1458423"/>
                </a:lnTo>
                <a:lnTo>
                  <a:pt x="3454158" y="1399230"/>
                </a:lnTo>
                <a:lnTo>
                  <a:pt x="3442370" y="1399230"/>
                </a:lnTo>
                <a:lnTo>
                  <a:pt x="3430582" y="1396545"/>
                </a:lnTo>
                <a:lnTo>
                  <a:pt x="3406954" y="1396545"/>
                </a:lnTo>
                <a:lnTo>
                  <a:pt x="3395165" y="1393856"/>
                </a:lnTo>
                <a:lnTo>
                  <a:pt x="3383220" y="1393856"/>
                </a:lnTo>
                <a:lnTo>
                  <a:pt x="3375325" y="1391171"/>
                </a:lnTo>
                <a:lnTo>
                  <a:pt x="3351749" y="1391171"/>
                </a:lnTo>
                <a:lnTo>
                  <a:pt x="3339910" y="1388487"/>
                </a:lnTo>
                <a:lnTo>
                  <a:pt x="3328121" y="1388487"/>
                </a:lnTo>
                <a:lnTo>
                  <a:pt x="3316334" y="1385798"/>
                </a:lnTo>
                <a:lnTo>
                  <a:pt x="3304546" y="1385798"/>
                </a:lnTo>
                <a:lnTo>
                  <a:pt x="3292704" y="1383023"/>
                </a:lnTo>
                <a:lnTo>
                  <a:pt x="3280917" y="1383023"/>
                </a:lnTo>
                <a:lnTo>
                  <a:pt x="3268971" y="1380335"/>
                </a:lnTo>
                <a:lnTo>
                  <a:pt x="3257184" y="1380335"/>
                </a:lnTo>
                <a:lnTo>
                  <a:pt x="3245396" y="1377650"/>
                </a:lnTo>
                <a:lnTo>
                  <a:pt x="3225713" y="1377650"/>
                </a:lnTo>
                <a:lnTo>
                  <a:pt x="3202085" y="1372276"/>
                </a:lnTo>
                <a:lnTo>
                  <a:pt x="3190297" y="1372276"/>
                </a:lnTo>
                <a:lnTo>
                  <a:pt x="3178510" y="1369592"/>
                </a:lnTo>
                <a:lnTo>
                  <a:pt x="3166668" y="1369592"/>
                </a:lnTo>
                <a:lnTo>
                  <a:pt x="3154881" y="1366903"/>
                </a:lnTo>
                <a:lnTo>
                  <a:pt x="3142935" y="1366903"/>
                </a:lnTo>
                <a:lnTo>
                  <a:pt x="3131146" y="1364218"/>
                </a:lnTo>
                <a:lnTo>
                  <a:pt x="3119360" y="1364218"/>
                </a:lnTo>
                <a:lnTo>
                  <a:pt x="3095731" y="1358845"/>
                </a:lnTo>
                <a:lnTo>
                  <a:pt x="3083943" y="1358845"/>
                </a:lnTo>
                <a:lnTo>
                  <a:pt x="3076049" y="1356156"/>
                </a:lnTo>
                <a:lnTo>
                  <a:pt x="3064261" y="1356156"/>
                </a:lnTo>
                <a:lnTo>
                  <a:pt x="3040632" y="1350783"/>
                </a:lnTo>
                <a:lnTo>
                  <a:pt x="3028844" y="1350783"/>
                </a:lnTo>
                <a:lnTo>
                  <a:pt x="3005110" y="1345410"/>
                </a:lnTo>
                <a:lnTo>
                  <a:pt x="2993323" y="1345410"/>
                </a:lnTo>
                <a:lnTo>
                  <a:pt x="2969694" y="1340036"/>
                </a:lnTo>
                <a:lnTo>
                  <a:pt x="2957907" y="1340036"/>
                </a:lnTo>
                <a:lnTo>
                  <a:pt x="2934279" y="1334667"/>
                </a:lnTo>
                <a:lnTo>
                  <a:pt x="2926438" y="1331978"/>
                </a:lnTo>
                <a:lnTo>
                  <a:pt x="2914596" y="1331978"/>
                </a:lnTo>
                <a:lnTo>
                  <a:pt x="2879074" y="1323830"/>
                </a:lnTo>
                <a:lnTo>
                  <a:pt x="2867286" y="1323830"/>
                </a:lnTo>
                <a:lnTo>
                  <a:pt x="2808241" y="1310398"/>
                </a:lnTo>
                <a:lnTo>
                  <a:pt x="2796453" y="1310398"/>
                </a:lnTo>
                <a:lnTo>
                  <a:pt x="2784666" y="1307710"/>
                </a:lnTo>
                <a:lnTo>
                  <a:pt x="2776667" y="1305025"/>
                </a:lnTo>
                <a:lnTo>
                  <a:pt x="2634895" y="1272785"/>
                </a:lnTo>
                <a:lnTo>
                  <a:pt x="2627002" y="1270010"/>
                </a:lnTo>
                <a:lnTo>
                  <a:pt x="2603426" y="1264636"/>
                </a:lnTo>
                <a:lnTo>
                  <a:pt x="2591586" y="1259263"/>
                </a:lnTo>
                <a:lnTo>
                  <a:pt x="2544381" y="1248516"/>
                </a:lnTo>
                <a:lnTo>
                  <a:pt x="2532435" y="1243143"/>
                </a:lnTo>
                <a:lnTo>
                  <a:pt x="2497071" y="1235085"/>
                </a:lnTo>
                <a:lnTo>
                  <a:pt x="2485231" y="1229711"/>
                </a:lnTo>
                <a:lnTo>
                  <a:pt x="2477390" y="1227027"/>
                </a:lnTo>
                <a:lnTo>
                  <a:pt x="2465548" y="1224338"/>
                </a:lnTo>
                <a:lnTo>
                  <a:pt x="2453761" y="1218965"/>
                </a:lnTo>
                <a:lnTo>
                  <a:pt x="2430185" y="1213501"/>
                </a:lnTo>
                <a:lnTo>
                  <a:pt x="2418240" y="1208128"/>
                </a:lnTo>
                <a:lnTo>
                  <a:pt x="2406398" y="1205443"/>
                </a:lnTo>
                <a:lnTo>
                  <a:pt x="2394611" y="1200069"/>
                </a:lnTo>
                <a:lnTo>
                  <a:pt x="2382823" y="1197385"/>
                </a:lnTo>
                <a:lnTo>
                  <a:pt x="2371035" y="1192011"/>
                </a:lnTo>
                <a:lnTo>
                  <a:pt x="2359195" y="1189323"/>
                </a:lnTo>
                <a:lnTo>
                  <a:pt x="2347407" y="1183949"/>
                </a:lnTo>
                <a:lnTo>
                  <a:pt x="2335618" y="1181265"/>
                </a:lnTo>
                <a:lnTo>
                  <a:pt x="2327724" y="1175891"/>
                </a:lnTo>
                <a:lnTo>
                  <a:pt x="2315937" y="1173205"/>
                </a:lnTo>
                <a:lnTo>
                  <a:pt x="2292203" y="1162460"/>
                </a:lnTo>
                <a:lnTo>
                  <a:pt x="2280415" y="1159771"/>
                </a:lnTo>
                <a:lnTo>
                  <a:pt x="2256787" y="1148938"/>
                </a:lnTo>
                <a:lnTo>
                  <a:pt x="2244999" y="1146249"/>
                </a:lnTo>
                <a:lnTo>
                  <a:pt x="2209582" y="1130136"/>
                </a:lnTo>
                <a:lnTo>
                  <a:pt x="2197794" y="1127437"/>
                </a:lnTo>
                <a:lnTo>
                  <a:pt x="2185954" y="1122074"/>
                </a:lnTo>
                <a:lnTo>
                  <a:pt x="2178113" y="1116712"/>
                </a:lnTo>
                <a:lnTo>
                  <a:pt x="2036184" y="1052145"/>
                </a:lnTo>
                <a:lnTo>
                  <a:pt x="2016502" y="1038612"/>
                </a:lnTo>
                <a:lnTo>
                  <a:pt x="1981139" y="1022489"/>
                </a:lnTo>
                <a:lnTo>
                  <a:pt x="1969297" y="1014427"/>
                </a:lnTo>
                <a:lnTo>
                  <a:pt x="1945722" y="1003702"/>
                </a:lnTo>
                <a:lnTo>
                  <a:pt x="1933776" y="995640"/>
                </a:lnTo>
                <a:lnTo>
                  <a:pt x="1921988" y="990241"/>
                </a:lnTo>
                <a:lnTo>
                  <a:pt x="1910147" y="982107"/>
                </a:lnTo>
                <a:lnTo>
                  <a:pt x="1898359" y="976745"/>
                </a:lnTo>
                <a:lnTo>
                  <a:pt x="1866889" y="955222"/>
                </a:lnTo>
                <a:lnTo>
                  <a:pt x="1855101" y="949860"/>
                </a:lnTo>
                <a:lnTo>
                  <a:pt x="1831473" y="933737"/>
                </a:lnTo>
                <a:lnTo>
                  <a:pt x="1819685" y="928265"/>
                </a:lnTo>
                <a:lnTo>
                  <a:pt x="1807739" y="920240"/>
                </a:lnTo>
                <a:lnTo>
                  <a:pt x="1784111" y="904116"/>
                </a:lnTo>
                <a:lnTo>
                  <a:pt x="1772323" y="898718"/>
                </a:lnTo>
                <a:lnTo>
                  <a:pt x="1736906" y="874459"/>
                </a:lnTo>
                <a:lnTo>
                  <a:pt x="1729065" y="866397"/>
                </a:lnTo>
                <a:lnTo>
                  <a:pt x="1634498" y="801831"/>
                </a:lnTo>
                <a:lnTo>
                  <a:pt x="1622710" y="791105"/>
                </a:lnTo>
                <a:lnTo>
                  <a:pt x="1587294" y="766921"/>
                </a:lnTo>
                <a:lnTo>
                  <a:pt x="1575454" y="756088"/>
                </a:lnTo>
                <a:lnTo>
                  <a:pt x="1567455" y="748026"/>
                </a:lnTo>
                <a:lnTo>
                  <a:pt x="1555667" y="739964"/>
                </a:lnTo>
                <a:lnTo>
                  <a:pt x="1543879" y="729202"/>
                </a:lnTo>
                <a:lnTo>
                  <a:pt x="1520250" y="713079"/>
                </a:lnTo>
                <a:lnTo>
                  <a:pt x="1508462" y="702245"/>
                </a:lnTo>
                <a:lnTo>
                  <a:pt x="1496674" y="694184"/>
                </a:lnTo>
                <a:lnTo>
                  <a:pt x="1484834" y="683459"/>
                </a:lnTo>
                <a:lnTo>
                  <a:pt x="1473046" y="675397"/>
                </a:lnTo>
                <a:lnTo>
                  <a:pt x="1461258" y="664635"/>
                </a:lnTo>
                <a:lnTo>
                  <a:pt x="1449312" y="653910"/>
                </a:lnTo>
                <a:lnTo>
                  <a:pt x="1437524" y="645740"/>
                </a:lnTo>
                <a:lnTo>
                  <a:pt x="1425684" y="635015"/>
                </a:lnTo>
                <a:lnTo>
                  <a:pt x="1417843" y="626954"/>
                </a:lnTo>
                <a:lnTo>
                  <a:pt x="1382426" y="594706"/>
                </a:lnTo>
                <a:lnTo>
                  <a:pt x="1370638" y="586572"/>
                </a:lnTo>
                <a:lnTo>
                  <a:pt x="1323276" y="543563"/>
                </a:lnTo>
                <a:lnTo>
                  <a:pt x="1311488" y="535501"/>
                </a:lnTo>
                <a:lnTo>
                  <a:pt x="1276071" y="503182"/>
                </a:lnTo>
                <a:lnTo>
                  <a:pt x="1268178" y="492420"/>
                </a:lnTo>
                <a:lnTo>
                  <a:pt x="1209186" y="438616"/>
                </a:lnTo>
                <a:lnTo>
                  <a:pt x="1197240" y="427854"/>
                </a:lnTo>
                <a:lnTo>
                  <a:pt x="1126407" y="363216"/>
                </a:lnTo>
                <a:lnTo>
                  <a:pt x="1118565" y="352454"/>
                </a:lnTo>
                <a:lnTo>
                  <a:pt x="1106778" y="344392"/>
                </a:lnTo>
                <a:lnTo>
                  <a:pt x="1071203" y="312181"/>
                </a:lnTo>
                <a:lnTo>
                  <a:pt x="988581" y="236781"/>
                </a:lnTo>
                <a:lnTo>
                  <a:pt x="976795" y="228719"/>
                </a:lnTo>
                <a:lnTo>
                  <a:pt x="968900" y="217958"/>
                </a:lnTo>
                <a:lnTo>
                  <a:pt x="957007" y="207233"/>
                </a:lnTo>
                <a:lnTo>
                  <a:pt x="945167" y="199171"/>
                </a:lnTo>
                <a:lnTo>
                  <a:pt x="921590" y="177576"/>
                </a:lnTo>
                <a:lnTo>
                  <a:pt x="909750" y="169514"/>
                </a:lnTo>
                <a:lnTo>
                  <a:pt x="897962" y="158753"/>
                </a:lnTo>
                <a:lnTo>
                  <a:pt x="886174" y="150727"/>
                </a:lnTo>
                <a:lnTo>
                  <a:pt x="874334" y="139966"/>
                </a:lnTo>
                <a:lnTo>
                  <a:pt x="850757" y="123771"/>
                </a:lnTo>
                <a:lnTo>
                  <a:pt x="827024" y="107647"/>
                </a:lnTo>
                <a:lnTo>
                  <a:pt x="819130" y="99585"/>
                </a:lnTo>
                <a:lnTo>
                  <a:pt x="771926" y="67266"/>
                </a:lnTo>
                <a:lnTo>
                  <a:pt x="760138" y="61866"/>
                </a:lnTo>
                <a:lnTo>
                  <a:pt x="748351" y="53806"/>
                </a:lnTo>
                <a:lnTo>
                  <a:pt x="677359" y="21485"/>
                </a:lnTo>
                <a:lnTo>
                  <a:pt x="669518" y="18787"/>
                </a:lnTo>
                <a:lnTo>
                  <a:pt x="657678" y="13423"/>
                </a:lnTo>
                <a:lnTo>
                  <a:pt x="610473" y="2698"/>
                </a:lnTo>
                <a:close/>
              </a:path>
              <a:path w="3454400" h="1458595">
                <a:moveTo>
                  <a:pt x="586739" y="0"/>
                </a:moveTo>
                <a:lnTo>
                  <a:pt x="563163" y="0"/>
                </a:lnTo>
                <a:lnTo>
                  <a:pt x="551323" y="2698"/>
                </a:lnTo>
                <a:lnTo>
                  <a:pt x="598580" y="2698"/>
                </a:lnTo>
                <a:lnTo>
                  <a:pt x="586739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object 7"/>
          <p:cNvSpPr/>
          <p:nvPr/>
        </p:nvSpPr>
        <p:spPr>
          <a:xfrm>
            <a:off x="3530520" y="3511440"/>
            <a:ext cx="360" cy="1484280"/>
          </a:xfrm>
          <a:custGeom>
            <a:avLst/>
            <a:gdLst/>
            <a:ahLst/>
            <a:rect l="l" t="t" r="r" b="b"/>
            <a:pathLst>
              <a:path w="0" h="1485264">
                <a:moveTo>
                  <a:pt x="0" y="0"/>
                </a:moveTo>
                <a:lnTo>
                  <a:pt x="1" y="1485250"/>
                </a:lnTo>
              </a:path>
            </a:pathLst>
          </a:custGeom>
          <a:noFill/>
          <a:ln w="9360">
            <a:solidFill>
              <a:srgbClr val="e3ed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object 8"/>
          <p:cNvSpPr/>
          <p:nvPr/>
        </p:nvSpPr>
        <p:spPr>
          <a:xfrm>
            <a:off x="4019400" y="3879720"/>
            <a:ext cx="360" cy="1108080"/>
          </a:xfrm>
          <a:custGeom>
            <a:avLst/>
            <a:gdLst/>
            <a:ahLst/>
            <a:rect l="l" t="t" r="r" b="b"/>
            <a:pathLst>
              <a:path w="0" h="1107439">
                <a:moveTo>
                  <a:pt x="0" y="0"/>
                </a:moveTo>
                <a:lnTo>
                  <a:pt x="1" y="1107346"/>
                </a:lnTo>
              </a:path>
            </a:pathLst>
          </a:custGeom>
          <a:noFill/>
          <a:ln w="9360">
            <a:solidFill>
              <a:srgbClr val="e3ed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object 9"/>
          <p:cNvSpPr/>
          <p:nvPr/>
        </p:nvSpPr>
        <p:spPr>
          <a:xfrm>
            <a:off x="4618080" y="4354560"/>
            <a:ext cx="360" cy="633240"/>
          </a:xfrm>
          <a:custGeom>
            <a:avLst/>
            <a:gdLst/>
            <a:ahLst/>
            <a:rect l="l" t="t" r="r" b="b"/>
            <a:pathLst>
              <a:path w="0" h="633095">
                <a:moveTo>
                  <a:pt x="0" y="0"/>
                </a:moveTo>
                <a:lnTo>
                  <a:pt x="1" y="632769"/>
                </a:lnTo>
              </a:path>
            </a:pathLst>
          </a:custGeom>
          <a:noFill/>
          <a:ln w="9360">
            <a:solidFill>
              <a:srgbClr val="e3ed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object 10"/>
          <p:cNvSpPr/>
          <p:nvPr/>
        </p:nvSpPr>
        <p:spPr>
          <a:xfrm>
            <a:off x="2454120" y="4987800"/>
            <a:ext cx="4403880" cy="360"/>
          </a:xfrm>
          <a:custGeom>
            <a:avLst/>
            <a:gdLst/>
            <a:ahLst/>
            <a:rect l="l" t="t" r="r" b="b"/>
            <a:pathLst>
              <a:path w="4403725" h="0">
                <a:moveTo>
                  <a:pt x="0" y="0"/>
                </a:moveTo>
                <a:lnTo>
                  <a:pt x="44037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" name="Date Placeholder 10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5B55-5F11-4E24-97E2-DA0FFF90E795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-272880"/>
            <a:ext cx="6553080" cy="214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500400" bIns="0" anchor="ctr">
            <a:noAutofit/>
          </a:bodyPr>
          <a:p>
            <a:pPr marL="12600" indent="0">
              <a:spcBef>
                <a:spcPts val="99"/>
              </a:spcBef>
              <a:buNone/>
              <a:tabLst>
                <a:tab algn="l" pos="0"/>
                <a:tab algn="l" pos="824076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Choosing the Proper Statistic</a:t>
            </a: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135" name="object 3"/>
          <p:cNvSpPr/>
          <p:nvPr/>
        </p:nvSpPr>
        <p:spPr>
          <a:xfrm>
            <a:off x="536400" y="1182600"/>
            <a:ext cx="76201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1360" bIns="0" anchor="t">
            <a:spAutoFit/>
          </a:bodyPr>
          <a:p>
            <a:pPr marL="1260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Continuous data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en-US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Always report the mean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en-US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If data are substantially skewed, it is appropriate to use the  median as well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Categorical data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en-US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For nominal data you can only use the mode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en-US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For ordinal data the median is appropriate (although people  often use the mean)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7697-8B96-4370-9A09-218DBD9123E4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8560" y="1440"/>
            <a:ext cx="6553080" cy="159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500400" bIns="0" anchor="ctr">
            <a:noAutofit/>
          </a:bodyPr>
          <a:p>
            <a:pPr marL="12600" indent="0">
              <a:spcBef>
                <a:spcPts val="99"/>
              </a:spcBef>
              <a:buNone/>
              <a:tabLst>
                <a:tab algn="l" pos="0"/>
                <a:tab algn="l" pos="824076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Example</a:t>
            </a: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138" name="object 3"/>
          <p:cNvSpPr/>
          <p:nvPr/>
        </p:nvSpPr>
        <p:spPr>
          <a:xfrm>
            <a:off x="536400" y="1252440"/>
            <a:ext cx="799164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spAutoFit/>
          </a:bodyPr>
          <a:p>
            <a:pPr marL="279360" indent="-266760">
              <a:lnSpc>
                <a:spcPts val="3098"/>
              </a:lnSpc>
              <a:spcBef>
                <a:spcPts val="224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SAT scores from a sample of 10 college applicants yielded  the following: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84080" y="2136600"/>
          <a:ext cx="2055960" cy="1165320"/>
        </p:xfrm>
        <a:graphic>
          <a:graphicData uri="http://schemas.openxmlformats.org/drawingml/2006/table">
            <a:tbl>
              <a:tblPr/>
              <a:tblGrid>
                <a:gridCol w="1403640"/>
                <a:gridCol w="652320"/>
              </a:tblGrid>
              <a:tr h="330480">
                <a:tc>
                  <a:txBody>
                    <a:bodyPr lIns="0" rIns="0" tIns="0" bIns="0" anchor="t">
                      <a:noAutofit/>
                    </a:bodyPr>
                    <a:p>
                      <a:pPr marL="31680">
                        <a:lnSpc>
                          <a:spcPts val="2599"/>
                        </a:lnSpc>
                        <a:tabLst>
                          <a:tab algn="l" pos="0"/>
                          <a:tab algn="l" pos="303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9fb8cd"/>
                          </a:solidFill>
                          <a:latin typeface="Wingdings 3"/>
                          <a:ea typeface="Wingdings 3"/>
                        </a:rPr>
                        <a:t></a:t>
                      </a:r>
                      <a:r>
                        <a:rPr b="0" lang="en-US" sz="1700" spc="-1" strike="noStrike">
                          <a:solidFill>
                            <a:srgbClr val="9fb8cd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464653"/>
                          </a:solidFill>
                          <a:latin typeface="Gill Sans MT"/>
                          <a:ea typeface="Gill Sans MT"/>
                        </a:rPr>
                        <a:t>Mode:</a:t>
                      </a:r>
                      <a:endParaRPr b="0" lang="en-US" sz="23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464653"/>
                          </a:solidFill>
                          <a:latin typeface="Gill Sans MT"/>
                          <a:ea typeface="Gill Sans MT"/>
                        </a:rPr>
                        <a:t>480</a:t>
                      </a:r>
                      <a:endParaRPr b="0" lang="en-US" sz="23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920">
                <a:tc>
                  <a:txBody>
                    <a:bodyPr lIns="0" rIns="0" tIns="19080" bIns="0" anchor="t">
                      <a:noAutofit/>
                    </a:bodyPr>
                    <a:p>
                      <a:pPr marL="31680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03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9fb8cd"/>
                          </a:solidFill>
                          <a:latin typeface="Wingdings 3"/>
                          <a:ea typeface="Wingdings 3"/>
                        </a:rPr>
                        <a:t></a:t>
                      </a:r>
                      <a:r>
                        <a:rPr b="0" lang="en-US" sz="1700" spc="-1" strike="noStrike">
                          <a:solidFill>
                            <a:srgbClr val="9fb8cd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464653"/>
                          </a:solidFill>
                          <a:latin typeface="Gill Sans MT"/>
                          <a:ea typeface="Gill Sans MT"/>
                        </a:rPr>
                        <a:t>Median:</a:t>
                      </a:r>
                      <a:endParaRPr b="0" lang="en-US" sz="23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90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464653"/>
                          </a:solidFill>
                          <a:latin typeface="Gill Sans MT"/>
                          <a:ea typeface="Gill Sans MT"/>
                        </a:rPr>
                        <a:t>505</a:t>
                      </a:r>
                      <a:endParaRPr b="0" lang="en-US" sz="23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0" rIns="0" tIns="12600" bIns="0" anchor="t">
                      <a:noAutofit/>
                    </a:bodyPr>
                    <a:p>
                      <a:pPr marL="31680">
                        <a:lnSpc>
                          <a:spcPts val="2724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03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9fb8cd"/>
                          </a:solidFill>
                          <a:latin typeface="Wingdings 3"/>
                          <a:ea typeface="Wingdings 3"/>
                        </a:rPr>
                        <a:t></a:t>
                      </a:r>
                      <a:r>
                        <a:rPr b="0" lang="en-US" sz="1700" spc="-1" strike="noStrike">
                          <a:solidFill>
                            <a:srgbClr val="9fb8cd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464653"/>
                          </a:solidFill>
                          <a:latin typeface="Gill Sans MT"/>
                          <a:ea typeface="Gill Sans MT"/>
                        </a:rPr>
                        <a:t>Mean:</a:t>
                      </a:r>
                      <a:endParaRPr b="0" lang="en-US" sz="23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2600" bIns="0" anchor="t">
                      <a:noAutofit/>
                    </a:bodyPr>
                    <a:p>
                      <a:pPr algn="r">
                        <a:lnSpc>
                          <a:spcPts val="2724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464653"/>
                          </a:solidFill>
                          <a:latin typeface="Gill Sans MT"/>
                          <a:ea typeface="Gill Sans MT"/>
                        </a:rPr>
                        <a:t>526</a:t>
                      </a:r>
                      <a:endParaRPr b="0" lang="en-US" sz="23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object 5"/>
          <p:cNvSpPr/>
          <p:nvPr/>
        </p:nvSpPr>
        <p:spPr>
          <a:xfrm>
            <a:off x="536400" y="3360600"/>
            <a:ext cx="78933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ru-RU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Which measure of central tendency is most appropriate?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Date Placeholder 5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DCC8-9997-4BD9-808A-86702A1FB933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8560" y="1440"/>
            <a:ext cx="6553080" cy="159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500400" bIns="0" anchor="ctr">
            <a:noAutofit/>
          </a:bodyPr>
          <a:p>
            <a:pPr marL="12600" indent="0">
              <a:spcBef>
                <a:spcPts val="99"/>
              </a:spcBef>
              <a:buNone/>
              <a:tabLst>
                <a:tab algn="l" pos="0"/>
                <a:tab algn="l" pos="824076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Measures of Variability</a:t>
            </a: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143" name="object 3"/>
          <p:cNvSpPr/>
          <p:nvPr/>
        </p:nvSpPr>
        <p:spPr>
          <a:xfrm>
            <a:off x="536400" y="1252440"/>
            <a:ext cx="779004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spAutoFit/>
          </a:bodyPr>
          <a:p>
            <a:pPr marL="279360" indent="-266760">
              <a:lnSpc>
                <a:spcPts val="3098"/>
              </a:lnSpc>
              <a:spcBef>
                <a:spcPts val="224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The fluctuation of scores about a central tendency is  called </a:t>
            </a:r>
            <a:r>
              <a:rPr b="0" lang="en-US" sz="2600" spc="-1" strike="noStrike">
                <a:solidFill>
                  <a:srgbClr val="5f5f5f"/>
                </a:solidFill>
                <a:latin typeface="MS PGothic"/>
                <a:ea typeface="MS PGothic"/>
              </a:rPr>
              <a:t>“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variability.</a:t>
            </a:r>
            <a:r>
              <a:rPr b="0" lang="en-US" sz="2600" spc="-1" strike="noStrike">
                <a:solidFill>
                  <a:srgbClr val="5f5f5f"/>
                </a:solidFill>
                <a:latin typeface="MS PGothic"/>
                <a:ea typeface="MS PGothic"/>
              </a:rPr>
              <a:t>”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279360" indent="-266760">
              <a:lnSpc>
                <a:spcPts val="3098"/>
              </a:lnSpc>
              <a:spcBef>
                <a:spcPts val="60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We can use measures of variability to compare two sets  of scores.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279360" indent="-266760">
              <a:lnSpc>
                <a:spcPct val="103000"/>
              </a:lnSpc>
              <a:spcBef>
                <a:spcPts val="40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Although the means may be the same, the  distribution may be different.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279360" indent="-266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Measure of Variability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279360" indent="-2667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en-US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Range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  <a:p>
            <a:pPr marL="279360" indent="-266760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en-US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Standard Deviation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  <a:p>
            <a:pPr marL="279360" indent="-26676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en-US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Variance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Date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2051-0A5E-4406-9E40-DE97950C86E7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8560" y="1440"/>
            <a:ext cx="6553080" cy="159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500400" bIns="0" anchor="ctr">
            <a:noAutofit/>
          </a:bodyPr>
          <a:p>
            <a:pPr marL="12600" indent="0">
              <a:spcBef>
                <a:spcPts val="99"/>
              </a:spcBef>
              <a:buNone/>
              <a:tabLst>
                <a:tab algn="l" pos="0"/>
                <a:tab algn="l" pos="824076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Range</a:t>
            </a: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146" name="object 3"/>
          <p:cNvSpPr/>
          <p:nvPr/>
        </p:nvSpPr>
        <p:spPr>
          <a:xfrm>
            <a:off x="536400" y="1177920"/>
            <a:ext cx="7672680" cy="38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spAutoFit/>
          </a:bodyPr>
          <a:p>
            <a:pPr marL="12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Range is the distance between two extreme scores.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ts val="3098"/>
              </a:lnSpc>
              <a:spcBef>
                <a:spcPts val="70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It informs us about the dispersion of our  distribution.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ts val="3098"/>
              </a:lnSpc>
              <a:spcBef>
                <a:spcPts val="60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The larger the range the larger the dispersion from the  mean value.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ts val="3098"/>
              </a:lnSpc>
              <a:spcBef>
                <a:spcPts val="70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Although the mean of the scores of two  distributions can be identical their ranges may be  different.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2B75-D1C6-4144-A698-293508972C7E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bject 3"/>
          <p:cNvSpPr/>
          <p:nvPr/>
        </p:nvSpPr>
        <p:spPr>
          <a:xfrm>
            <a:off x="536400" y="1252440"/>
            <a:ext cx="806472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spAutoFit/>
          </a:bodyPr>
          <a:p>
            <a:pPr marL="279360" indent="-266760" algn="just">
              <a:lnSpc>
                <a:spcPts val="3098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Good preliminary measure, but one single extreme value  can influence the range significantly.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279360" indent="-266760" algn="just">
              <a:lnSpc>
                <a:spcPts val="30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The calculation of the range is derived from the highest  and lowest values and doesn</a:t>
            </a:r>
            <a:r>
              <a:rPr b="0" lang="en-US" sz="2600" spc="-1" strike="noStrike">
                <a:solidFill>
                  <a:srgbClr val="5f5f5f"/>
                </a:solidFill>
                <a:latin typeface="MS PGothic"/>
                <a:ea typeface="MS PGothic"/>
              </a:rPr>
              <a:t>’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t tell us anything about  the variability of the different values.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4672-B175-40DD-8E1F-C49BB18378C4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655344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bba"/>
                </a:solidFill>
                <a:latin typeface="Arial"/>
              </a:rPr>
              <a:t>Drawbacks to the Range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ject 3"/>
          <p:cNvSpPr/>
          <p:nvPr/>
        </p:nvSpPr>
        <p:spPr>
          <a:xfrm>
            <a:off x="536400" y="1177920"/>
            <a:ext cx="7979040" cy="42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spAutoFit/>
          </a:bodyPr>
          <a:p>
            <a:pPr marL="12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Defined as the variability of the scores around the mean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ts val="3098"/>
              </a:lnSpc>
              <a:spcBef>
                <a:spcPts val="70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Each score in a distribution varies from the mean by a  greater or lesser amount, except when the score is the  same as the mean.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3000"/>
              </a:lnSpc>
              <a:spcBef>
                <a:spcPts val="40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Deviations from the mean can be noted as either positive  or negative deviations from the mean.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The average of these deviations would equal </a:t>
            </a:r>
            <a:r>
              <a:rPr b="0" lang="en-US" sz="2600" spc="-1" strike="noStrike">
                <a:solidFill>
                  <a:srgbClr val="5f5f5f"/>
                </a:solidFill>
                <a:latin typeface="MS PGothic"/>
                <a:ea typeface="MS PGothic"/>
              </a:rPr>
              <a:t>“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zero.</a:t>
            </a:r>
            <a:r>
              <a:rPr b="0" lang="en-US" sz="2600" spc="-1" strike="noStrike">
                <a:solidFill>
                  <a:srgbClr val="5f5f5f"/>
                </a:solidFill>
                <a:latin typeface="MS PGothic"/>
                <a:ea typeface="MS PGothic"/>
              </a:rPr>
              <a:t>”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FED4-5D3E-4DCA-BA97-692CBEE1C116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655308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bba"/>
                </a:solidFill>
                <a:latin typeface="Arial"/>
              </a:rPr>
              <a:t>Standard Deviation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object 3"/>
          <p:cNvSpPr/>
          <p:nvPr/>
        </p:nvSpPr>
        <p:spPr>
          <a:xfrm>
            <a:off x="536400" y="1252440"/>
            <a:ext cx="15210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ru-RU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Large SD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object 4"/>
          <p:cNvSpPr/>
          <p:nvPr/>
        </p:nvSpPr>
        <p:spPr>
          <a:xfrm>
            <a:off x="536400" y="4084560"/>
            <a:ext cx="1479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ru-RU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Small SD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object 5"/>
          <p:cNvSpPr/>
          <p:nvPr/>
        </p:nvSpPr>
        <p:spPr>
          <a:xfrm>
            <a:off x="482760" y="1625760"/>
            <a:ext cx="7827840" cy="1946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object 6"/>
          <p:cNvSpPr/>
          <p:nvPr/>
        </p:nvSpPr>
        <p:spPr>
          <a:xfrm>
            <a:off x="3606840" y="4368960"/>
            <a:ext cx="1574640" cy="165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Date Placeholder 6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87F0-A5F9-4BCF-BFAF-9F58295CE2A5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0120" y="423720"/>
            <a:ext cx="655344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bba"/>
                </a:solidFill>
                <a:latin typeface="Arial"/>
              </a:rPr>
              <a:t>Standard Deviation (cont.)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280" y="2421000"/>
            <a:ext cx="6227640" cy="110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12600" bIns="0" anchor="ctr">
            <a:noAutofit/>
          </a:bodyPr>
          <a:p>
            <a:pPr marL="12600" indent="0">
              <a:spcBef>
                <a:spcPts val="99"/>
              </a:spcBef>
              <a:buNone/>
              <a:tabLst>
                <a:tab algn="l" pos="0"/>
                <a:tab algn="l" pos="824076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2bb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42bba"/>
                </a:solidFill>
                <a:latin typeface="Arial"/>
              </a:rPr>
              <a:t>Variance</a:t>
            </a:r>
            <a:r>
              <a:rPr b="1" lang="ru-RU" sz="3200" spc="-1" strike="noStrike">
                <a:solidFill>
                  <a:srgbClr val="042bba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161" name="object 3"/>
          <p:cNvSpPr/>
          <p:nvPr/>
        </p:nvSpPr>
        <p:spPr>
          <a:xfrm>
            <a:off x="468360" y="620640"/>
            <a:ext cx="636732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spAutoFit/>
          </a:bodyPr>
          <a:p>
            <a:pPr marL="279360" indent="-266760" algn="just">
              <a:lnSpc>
                <a:spcPts val="3098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The variance and the closely-related standard  deviation are measures of how </a:t>
            </a:r>
            <a:r>
              <a:rPr b="1" lang="en-US" sz="2600" spc="-1" strike="noStrike">
                <a:solidFill>
                  <a:srgbClr val="0070c0"/>
                </a:solidFill>
                <a:latin typeface="Gill Sans MT"/>
                <a:ea typeface="Gill Sans MT"/>
              </a:rPr>
              <a:t>spread 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out a  distribution is.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Date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666F-BE7D-4C39-AC14-198354BFD517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916280"/>
            <a:ext cx="6840720" cy="180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marL="5652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2bba"/>
                </a:solidFill>
                <a:latin typeface="Bookman Old Style"/>
                <a:ea typeface="Bookman Old Style"/>
              </a:rPr>
              <a:t>Descriptive Statistics</a:t>
            </a:r>
            <a:endParaRPr b="1" lang="en-US" sz="4000" spc="-1" strike="noStrike">
              <a:solidFill>
                <a:srgbClr val="042bba"/>
              </a:solidFill>
              <a:latin typeface="Arial"/>
            </a:endParaRPr>
          </a:p>
        </p:txBody>
      </p:sp>
      <p:pic>
        <p:nvPicPr>
          <p:cNvPr id="91" name="Picture 4" descr="nsflogo"/>
          <p:cNvPicPr/>
          <p:nvPr/>
        </p:nvPicPr>
        <p:blipFill>
          <a:blip r:embed="rId1"/>
          <a:stretch/>
        </p:blipFill>
        <p:spPr>
          <a:xfrm>
            <a:off x="4356000" y="6357960"/>
            <a:ext cx="46692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bject 3"/>
          <p:cNvSpPr/>
          <p:nvPr/>
        </p:nvSpPr>
        <p:spPr>
          <a:xfrm>
            <a:off x="762120" y="1981080"/>
            <a:ext cx="708660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81612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5565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Bookman Old Style"/>
                <a:ea typeface="Bookman Old Style"/>
              </a:rPr>
              <a:t>Frequency Distribution</a:t>
            </a:r>
            <a:r>
              <a:rPr b="0" lang="ru-RU" sz="3200" spc="-1" strike="noStrike">
                <a:solidFill>
                  <a:srgbClr val="5f5f5f"/>
                </a:solidFill>
                <a:latin typeface="Bookman Old Style"/>
                <a:ea typeface="Bookman Old Style"/>
              </a:rPr>
              <a:t>	</a:t>
            </a:r>
            <a:r>
              <a:rPr b="0" lang="ru-RU" sz="3200" spc="-1" strike="noStrike">
                <a:solidFill>
                  <a:srgbClr val="5f5f5f"/>
                </a:solidFill>
                <a:latin typeface="Bookman Old Style"/>
                <a:ea typeface="Bookman Old Style"/>
              </a:rPr>
              <a:t>Tabl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F7B7-A55D-46C7-B752-9BDCF1755130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5240" y="-285840"/>
            <a:ext cx="6553080" cy="159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500400" bIns="0" anchor="ctr">
            <a:noAutofit/>
          </a:bodyPr>
          <a:p>
            <a:pPr marL="12600" indent="0">
              <a:spcBef>
                <a:spcPts val="99"/>
              </a:spcBef>
              <a:buNone/>
              <a:tabLst>
                <a:tab algn="l" pos="0"/>
                <a:tab algn="l" pos="824076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Overview</a:t>
            </a: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166" name="object 3"/>
          <p:cNvSpPr/>
          <p:nvPr/>
        </p:nvSpPr>
        <p:spPr>
          <a:xfrm>
            <a:off x="536400" y="1252440"/>
            <a:ext cx="785196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spAutoFit/>
          </a:bodyPr>
          <a:p>
            <a:pPr marL="279360" indent="-266760">
              <a:lnSpc>
                <a:spcPts val="3098"/>
              </a:lnSpc>
              <a:spcBef>
                <a:spcPts val="224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After collecting data, researchers are faced with pages of  unorganized numbers, stacks of survey responses, etc.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279360" indent="-266760">
              <a:lnSpc>
                <a:spcPts val="3098"/>
              </a:lnSpc>
              <a:spcBef>
                <a:spcPts val="60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The goal of descriptive statistics is to aggregate the  individual scores (datum) in a way that can be readily  summarized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279360" indent="-266760">
              <a:lnSpc>
                <a:spcPts val="3112"/>
              </a:lnSpc>
              <a:spcBef>
                <a:spcPts val="57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A frequency distribution table can be used to get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279360" indent="-266760">
              <a:lnSpc>
                <a:spcPts val="3112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5f5f"/>
                </a:solidFill>
                <a:latin typeface="MS PGothic"/>
                <a:ea typeface="MS PGothic"/>
              </a:rPr>
              <a:t>“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picture</a:t>
            </a:r>
            <a:r>
              <a:rPr b="0" lang="en-US" sz="2600" spc="-1" strike="noStrike">
                <a:solidFill>
                  <a:srgbClr val="5f5f5f"/>
                </a:solidFill>
                <a:latin typeface="MS PGothic"/>
                <a:ea typeface="MS PGothic"/>
              </a:rPr>
              <a:t>” 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of how scores were distributed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Date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211B-0BA7-4D9B-B3BF-58FBF68E508F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1440"/>
            <a:ext cx="6553080" cy="159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500400" bIns="0" anchor="ctr">
            <a:noAutofit/>
          </a:bodyPr>
          <a:p>
            <a:pPr marL="12600" indent="0">
              <a:spcBef>
                <a:spcPts val="99"/>
              </a:spcBef>
              <a:buNone/>
              <a:tabLst>
                <a:tab algn="l" pos="0"/>
                <a:tab algn="l" pos="824076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Frequency Distributions</a:t>
            </a: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169" name="object 3"/>
          <p:cNvSpPr/>
          <p:nvPr/>
        </p:nvSpPr>
        <p:spPr>
          <a:xfrm>
            <a:off x="536400" y="1252440"/>
            <a:ext cx="803304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spAutoFit/>
          </a:bodyPr>
          <a:p>
            <a:pPr marL="279360" indent="-266760">
              <a:lnSpc>
                <a:spcPts val="3098"/>
              </a:lnSpc>
              <a:spcBef>
                <a:spcPts val="224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A frequency distribution displays the number (or percent)  of individuals that obtained a particular score or fell in a  particular category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279360" indent="-266760">
              <a:lnSpc>
                <a:spcPts val="3098"/>
              </a:lnSpc>
              <a:spcBef>
                <a:spcPts val="60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As such, these tables provide a picture of where people  respond across the range of the measurement scale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279360" indent="-266760">
              <a:lnSpc>
                <a:spcPts val="3098"/>
              </a:lnSpc>
              <a:spcBef>
                <a:spcPts val="70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One goal is to determine where the </a:t>
            </a:r>
            <a:r>
              <a:rPr b="1" lang="en-US" sz="2600" spc="-1" strike="noStrike">
                <a:solidFill>
                  <a:srgbClr val="0070c0"/>
                </a:solidFill>
                <a:latin typeface="Gill Sans MT"/>
                <a:ea typeface="Gill Sans MT"/>
              </a:rPr>
              <a:t>majority 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of  respondents were located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Date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BE98-22CC-4961-A5FD-0ED0304231C1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object 3"/>
          <p:cNvSpPr/>
          <p:nvPr/>
        </p:nvSpPr>
        <p:spPr>
          <a:xfrm>
            <a:off x="536400" y="1252440"/>
            <a:ext cx="80424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ts val="3112"/>
              </a:lnSpc>
              <a:spcBef>
                <a:spcPts val="9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Frequency distributions and tables can be used to answer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ts val="3112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Gill Sans MT"/>
                <a:ea typeface="Gill Sans MT"/>
              </a:rPr>
              <a:t>all 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descriptive research questions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ts val="3098"/>
              </a:lnSpc>
              <a:spcBef>
                <a:spcPts val="70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It is important to </a:t>
            </a:r>
            <a:r>
              <a:rPr b="1" lang="en-US" sz="2600" spc="-1" strike="noStrike">
                <a:solidFill>
                  <a:srgbClr val="0070c0"/>
                </a:solidFill>
                <a:latin typeface="Gill Sans MT"/>
                <a:ea typeface="Gill Sans MT"/>
              </a:rPr>
              <a:t>always 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examine frequency distributions  on the IV and DV when answering comparative and  relationship questions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6211-5F82-4BDC-8A71-746D58B38866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684216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bba"/>
                </a:solidFill>
                <a:latin typeface="Arial"/>
              </a:rPr>
              <a:t>When to use Frequency Tables</a:t>
            </a:r>
            <a:endParaRPr b="1" lang="en-US" sz="3200" spc="-1" strike="noStrike">
              <a:solidFill>
                <a:srgbClr val="042b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bject 3"/>
          <p:cNvSpPr/>
          <p:nvPr/>
        </p:nvSpPr>
        <p:spPr>
          <a:xfrm>
            <a:off x="536400" y="1182600"/>
            <a:ext cx="78552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1360" bIns="0" anchor="t">
            <a:spAutoFit/>
          </a:bodyPr>
          <a:p>
            <a:pPr marL="1260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Frequency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ts val="2699"/>
              </a:lnSpc>
              <a:spcBef>
                <a:spcPts val="624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en-US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the number of individuals that obtained a particular score (or  response)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Percent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1000"/>
              </a:lnSpc>
              <a:spcBef>
                <a:spcPts val="437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en-US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The corresponding percentage of individuals that obtained a  particular score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Cumulative Percent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ts val="2699"/>
              </a:lnSpc>
              <a:spcBef>
                <a:spcPts val="726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en-US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The percentage of individuals that fell at or below a particular  score (not relevant for nominal variables)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02F6-F350-461C-A952-E4446338418A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655308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bba"/>
                </a:solidFill>
                <a:latin typeface="Arial"/>
              </a:rPr>
              <a:t>Frequency Distribution Table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object 2"/>
          <p:cNvSpPr/>
          <p:nvPr/>
        </p:nvSpPr>
        <p:spPr>
          <a:xfrm>
            <a:off x="457200" y="6353280"/>
            <a:ext cx="8229600" cy="360"/>
          </a:xfrm>
          <a:custGeom>
            <a:avLst/>
            <a:gdLst/>
            <a:ahLst/>
            <a:rect l="l" t="t" r="r" b="b"/>
            <a:pathLst>
              <a:path w="8229600" h="0">
                <a:moveTo>
                  <a:pt x="0" y="0"/>
                </a:moveTo>
                <a:lnTo>
                  <a:pt x="8229597" y="1"/>
                </a:lnTo>
              </a:path>
            </a:pathLst>
          </a:custGeom>
          <a:noFill/>
          <a:ln w="9360">
            <a:solidFill>
              <a:srgbClr val="aec5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8" name="object 3"/>
          <p:cNvSpPr/>
          <p:nvPr/>
        </p:nvSpPr>
        <p:spPr>
          <a:xfrm>
            <a:off x="8458200" y="1143000"/>
            <a:ext cx="228600" cy="360"/>
          </a:xfrm>
          <a:custGeom>
            <a:avLst/>
            <a:gdLst/>
            <a:ahLst/>
            <a:rect l="l" t="t" r="r" b="b"/>
            <a:pathLst>
              <a:path w="228600" h="0">
                <a:moveTo>
                  <a:pt x="0" y="0"/>
                </a:moveTo>
                <a:lnTo>
                  <a:pt x="228599" y="0"/>
                </a:lnTo>
              </a:path>
            </a:pathLst>
          </a:custGeom>
          <a:noFill/>
          <a:ln w="9360">
            <a:solidFill>
              <a:srgbClr val="aec5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object 4"/>
          <p:cNvSpPr/>
          <p:nvPr/>
        </p:nvSpPr>
        <p:spPr>
          <a:xfrm>
            <a:off x="457200" y="1143000"/>
            <a:ext cx="4343400" cy="360"/>
          </a:xfrm>
          <a:custGeom>
            <a:avLst/>
            <a:gdLst/>
            <a:ahLst/>
            <a:rect l="l" t="t" r="r" b="b"/>
            <a:pathLst>
              <a:path w="4343400" h="0">
                <a:moveTo>
                  <a:pt x="0" y="0"/>
                </a:moveTo>
                <a:lnTo>
                  <a:pt x="4343400" y="0"/>
                </a:lnTo>
              </a:path>
            </a:pathLst>
          </a:custGeom>
          <a:noFill/>
          <a:ln w="9360">
            <a:solidFill>
              <a:srgbClr val="aec5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object 8"/>
          <p:cNvSpPr/>
          <p:nvPr/>
        </p:nvSpPr>
        <p:spPr>
          <a:xfrm>
            <a:off x="536400" y="1252440"/>
            <a:ext cx="3426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spAutoFit/>
          </a:bodyPr>
          <a:p>
            <a:pPr marL="279360" indent="-266760" algn="just">
              <a:lnSpc>
                <a:spcPts val="3098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What are the ages of  students in an online  course?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279360" indent="-266760">
              <a:lnSpc>
                <a:spcPct val="101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Are students likely to  recommend the course  to others?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1" name="object 9"/>
          <p:cNvSpPr/>
          <p:nvPr/>
        </p:nvSpPr>
        <p:spPr>
          <a:xfrm>
            <a:off x="536400" y="4175280"/>
            <a:ext cx="32148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19000"/>
              </a:lnSpc>
              <a:spcBef>
                <a:spcPts val="9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Step 1: Input the Data  into SPSS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object 10"/>
          <p:cNvSpPr/>
          <p:nvPr/>
        </p:nvSpPr>
        <p:spPr>
          <a:xfrm>
            <a:off x="4800600" y="380880"/>
            <a:ext cx="1828800" cy="365400"/>
          </a:xfrm>
          <a:custGeom>
            <a:avLst/>
            <a:gdLst/>
            <a:ahLst/>
            <a:rect l="l" t="t" r="r" b="b"/>
            <a:pathLst>
              <a:path w="1828800" h="365759">
                <a:moveTo>
                  <a:pt x="0" y="365759"/>
                </a:moveTo>
                <a:lnTo>
                  <a:pt x="1828800" y="365759"/>
                </a:lnTo>
                <a:lnTo>
                  <a:pt x="1828800" y="0"/>
                </a:lnTo>
                <a:lnTo>
                  <a:pt x="0" y="0"/>
                </a:lnTo>
                <a:lnTo>
                  <a:pt x="0" y="365759"/>
                </a:lnTo>
                <a:close/>
              </a:path>
            </a:pathLst>
          </a:custGeom>
          <a:solidFill>
            <a:srgbClr val="859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object 11"/>
          <p:cNvSpPr/>
          <p:nvPr/>
        </p:nvSpPr>
        <p:spPr>
          <a:xfrm>
            <a:off x="6629400" y="380880"/>
            <a:ext cx="1828800" cy="365400"/>
          </a:xfrm>
          <a:custGeom>
            <a:avLst/>
            <a:gdLst/>
            <a:ahLst/>
            <a:rect l="l" t="t" r="r" b="b"/>
            <a:pathLst>
              <a:path w="1828800" h="365759">
                <a:moveTo>
                  <a:pt x="0" y="365759"/>
                </a:moveTo>
                <a:lnTo>
                  <a:pt x="1828800" y="365759"/>
                </a:lnTo>
                <a:lnTo>
                  <a:pt x="1828800" y="0"/>
                </a:lnTo>
                <a:lnTo>
                  <a:pt x="0" y="0"/>
                </a:lnTo>
                <a:lnTo>
                  <a:pt x="0" y="365759"/>
                </a:lnTo>
                <a:close/>
              </a:path>
            </a:pathLst>
          </a:custGeom>
          <a:solidFill>
            <a:srgbClr val="859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object 12"/>
          <p:cNvSpPr/>
          <p:nvPr/>
        </p:nvSpPr>
        <p:spPr>
          <a:xfrm>
            <a:off x="4800600" y="746280"/>
            <a:ext cx="1828800" cy="366480"/>
          </a:xfrm>
          <a:custGeom>
            <a:avLst/>
            <a:gdLst/>
            <a:ahLst/>
            <a:rect l="l" t="t" r="r" b="b"/>
            <a:pathLst>
              <a:path w="1828800" h="365759">
                <a:moveTo>
                  <a:pt x="0" y="365760"/>
                </a:moveTo>
                <a:lnTo>
                  <a:pt x="1828800" y="365760"/>
                </a:lnTo>
                <a:lnTo>
                  <a:pt x="1828800" y="0"/>
                </a:lnTo>
                <a:lnTo>
                  <a:pt x="0" y="0"/>
                </a:lnTo>
                <a:lnTo>
                  <a:pt x="0" y="365760"/>
                </a:lnTo>
                <a:close/>
              </a:path>
            </a:pathLst>
          </a:custGeom>
          <a:solidFill>
            <a:srgbClr val="ddd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object 13"/>
          <p:cNvSpPr/>
          <p:nvPr/>
        </p:nvSpPr>
        <p:spPr>
          <a:xfrm>
            <a:off x="6629400" y="746280"/>
            <a:ext cx="1828800" cy="366480"/>
          </a:xfrm>
          <a:custGeom>
            <a:avLst/>
            <a:gdLst/>
            <a:ahLst/>
            <a:rect l="l" t="t" r="r" b="b"/>
            <a:pathLst>
              <a:path w="1828800" h="365759">
                <a:moveTo>
                  <a:pt x="0" y="365760"/>
                </a:moveTo>
                <a:lnTo>
                  <a:pt x="1828800" y="365760"/>
                </a:lnTo>
                <a:lnTo>
                  <a:pt x="1828800" y="0"/>
                </a:lnTo>
                <a:lnTo>
                  <a:pt x="0" y="0"/>
                </a:lnTo>
                <a:lnTo>
                  <a:pt x="0" y="365760"/>
                </a:lnTo>
                <a:close/>
              </a:path>
            </a:pathLst>
          </a:custGeom>
          <a:solidFill>
            <a:srgbClr val="ddd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object 14"/>
          <p:cNvSpPr/>
          <p:nvPr/>
        </p:nvSpPr>
        <p:spPr>
          <a:xfrm>
            <a:off x="4800600" y="1112760"/>
            <a:ext cx="1828800" cy="365040"/>
          </a:xfrm>
          <a:custGeom>
            <a:avLst/>
            <a:gdLst/>
            <a:ahLst/>
            <a:rect l="l" t="t" r="r" b="b"/>
            <a:pathLst>
              <a:path w="1828800" h="365759">
                <a:moveTo>
                  <a:pt x="0" y="365759"/>
                </a:moveTo>
                <a:lnTo>
                  <a:pt x="1828800" y="365759"/>
                </a:lnTo>
                <a:lnTo>
                  <a:pt x="1828800" y="0"/>
                </a:lnTo>
                <a:lnTo>
                  <a:pt x="0" y="0"/>
                </a:lnTo>
                <a:lnTo>
                  <a:pt x="0" y="365759"/>
                </a:lnTo>
                <a:close/>
              </a:path>
            </a:pathLst>
          </a:custGeom>
          <a:solidFill>
            <a:srgbClr val="eff0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object 15"/>
          <p:cNvSpPr/>
          <p:nvPr/>
        </p:nvSpPr>
        <p:spPr>
          <a:xfrm>
            <a:off x="6629400" y="1112760"/>
            <a:ext cx="1828800" cy="365040"/>
          </a:xfrm>
          <a:custGeom>
            <a:avLst/>
            <a:gdLst/>
            <a:ahLst/>
            <a:rect l="l" t="t" r="r" b="b"/>
            <a:pathLst>
              <a:path w="1828800" h="365759">
                <a:moveTo>
                  <a:pt x="0" y="365759"/>
                </a:moveTo>
                <a:lnTo>
                  <a:pt x="1828800" y="365759"/>
                </a:lnTo>
                <a:lnTo>
                  <a:pt x="1828800" y="0"/>
                </a:lnTo>
                <a:lnTo>
                  <a:pt x="0" y="0"/>
                </a:lnTo>
                <a:lnTo>
                  <a:pt x="0" y="365759"/>
                </a:lnTo>
                <a:close/>
              </a:path>
            </a:pathLst>
          </a:custGeom>
          <a:solidFill>
            <a:srgbClr val="eff0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object 16"/>
          <p:cNvSpPr/>
          <p:nvPr/>
        </p:nvSpPr>
        <p:spPr>
          <a:xfrm>
            <a:off x="4800600" y="1477800"/>
            <a:ext cx="1828800" cy="36684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59"/>
                </a:moveTo>
                <a:lnTo>
                  <a:pt x="1828800" y="365759"/>
                </a:lnTo>
                <a:lnTo>
                  <a:pt x="1828800" y="0"/>
                </a:lnTo>
                <a:lnTo>
                  <a:pt x="0" y="0"/>
                </a:lnTo>
                <a:lnTo>
                  <a:pt x="0" y="365759"/>
                </a:lnTo>
                <a:close/>
              </a:path>
            </a:pathLst>
          </a:custGeom>
          <a:solidFill>
            <a:srgbClr val="ddd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" name="object 17"/>
          <p:cNvSpPr/>
          <p:nvPr/>
        </p:nvSpPr>
        <p:spPr>
          <a:xfrm>
            <a:off x="6629400" y="1477800"/>
            <a:ext cx="1828800" cy="36684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59"/>
                </a:moveTo>
                <a:lnTo>
                  <a:pt x="1828800" y="365759"/>
                </a:lnTo>
                <a:lnTo>
                  <a:pt x="1828800" y="0"/>
                </a:lnTo>
                <a:lnTo>
                  <a:pt x="0" y="0"/>
                </a:lnTo>
                <a:lnTo>
                  <a:pt x="0" y="365759"/>
                </a:lnTo>
                <a:close/>
              </a:path>
            </a:pathLst>
          </a:custGeom>
          <a:solidFill>
            <a:srgbClr val="ddd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object 18"/>
          <p:cNvSpPr/>
          <p:nvPr/>
        </p:nvSpPr>
        <p:spPr>
          <a:xfrm>
            <a:off x="4800600" y="1844640"/>
            <a:ext cx="1828800" cy="36504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60"/>
                </a:moveTo>
                <a:lnTo>
                  <a:pt x="1828800" y="365760"/>
                </a:lnTo>
                <a:lnTo>
                  <a:pt x="1828800" y="0"/>
                </a:lnTo>
                <a:lnTo>
                  <a:pt x="0" y="0"/>
                </a:lnTo>
                <a:lnTo>
                  <a:pt x="0" y="365760"/>
                </a:lnTo>
                <a:close/>
              </a:path>
            </a:pathLst>
          </a:custGeom>
          <a:solidFill>
            <a:srgbClr val="eff0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object 19"/>
          <p:cNvSpPr/>
          <p:nvPr/>
        </p:nvSpPr>
        <p:spPr>
          <a:xfrm>
            <a:off x="6642000" y="1828800"/>
            <a:ext cx="1828800" cy="36504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60"/>
                </a:moveTo>
                <a:lnTo>
                  <a:pt x="1828800" y="365760"/>
                </a:lnTo>
                <a:lnTo>
                  <a:pt x="1828800" y="0"/>
                </a:lnTo>
                <a:lnTo>
                  <a:pt x="0" y="0"/>
                </a:lnTo>
                <a:lnTo>
                  <a:pt x="0" y="365760"/>
                </a:lnTo>
                <a:close/>
              </a:path>
            </a:pathLst>
          </a:custGeom>
          <a:solidFill>
            <a:srgbClr val="eff0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2" name="object 20"/>
          <p:cNvSpPr/>
          <p:nvPr/>
        </p:nvSpPr>
        <p:spPr>
          <a:xfrm>
            <a:off x="4800600" y="2209680"/>
            <a:ext cx="1828800" cy="36540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59"/>
                </a:moveTo>
                <a:lnTo>
                  <a:pt x="1828800" y="365759"/>
                </a:lnTo>
                <a:lnTo>
                  <a:pt x="1828800" y="0"/>
                </a:lnTo>
                <a:lnTo>
                  <a:pt x="0" y="0"/>
                </a:lnTo>
                <a:lnTo>
                  <a:pt x="0" y="365759"/>
                </a:lnTo>
                <a:close/>
              </a:path>
            </a:pathLst>
          </a:custGeom>
          <a:solidFill>
            <a:srgbClr val="ddd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object 21"/>
          <p:cNvSpPr/>
          <p:nvPr/>
        </p:nvSpPr>
        <p:spPr>
          <a:xfrm>
            <a:off x="6629400" y="2209680"/>
            <a:ext cx="1828800" cy="36540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59"/>
                </a:moveTo>
                <a:lnTo>
                  <a:pt x="1828800" y="365759"/>
                </a:lnTo>
                <a:lnTo>
                  <a:pt x="1828800" y="0"/>
                </a:lnTo>
                <a:lnTo>
                  <a:pt x="0" y="0"/>
                </a:lnTo>
                <a:lnTo>
                  <a:pt x="0" y="365759"/>
                </a:lnTo>
                <a:close/>
              </a:path>
            </a:pathLst>
          </a:custGeom>
          <a:solidFill>
            <a:srgbClr val="ddd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object 22"/>
          <p:cNvSpPr/>
          <p:nvPr/>
        </p:nvSpPr>
        <p:spPr>
          <a:xfrm>
            <a:off x="4800600" y="2575080"/>
            <a:ext cx="1828800" cy="36648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59"/>
                </a:moveTo>
                <a:lnTo>
                  <a:pt x="1828800" y="365759"/>
                </a:lnTo>
                <a:lnTo>
                  <a:pt x="1828800" y="0"/>
                </a:lnTo>
                <a:lnTo>
                  <a:pt x="0" y="0"/>
                </a:lnTo>
                <a:lnTo>
                  <a:pt x="0" y="365759"/>
                </a:lnTo>
                <a:close/>
              </a:path>
            </a:pathLst>
          </a:custGeom>
          <a:solidFill>
            <a:srgbClr val="eff0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object 23"/>
          <p:cNvSpPr/>
          <p:nvPr/>
        </p:nvSpPr>
        <p:spPr>
          <a:xfrm>
            <a:off x="6629400" y="2575080"/>
            <a:ext cx="1828800" cy="36648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59"/>
                </a:moveTo>
                <a:lnTo>
                  <a:pt x="1828800" y="365759"/>
                </a:lnTo>
                <a:lnTo>
                  <a:pt x="1828800" y="0"/>
                </a:lnTo>
                <a:lnTo>
                  <a:pt x="0" y="0"/>
                </a:lnTo>
                <a:lnTo>
                  <a:pt x="0" y="365759"/>
                </a:lnTo>
                <a:close/>
              </a:path>
            </a:pathLst>
          </a:custGeom>
          <a:solidFill>
            <a:srgbClr val="eff0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object 24"/>
          <p:cNvSpPr/>
          <p:nvPr/>
        </p:nvSpPr>
        <p:spPr>
          <a:xfrm>
            <a:off x="4800600" y="2941560"/>
            <a:ext cx="1828800" cy="36504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60"/>
                </a:moveTo>
                <a:lnTo>
                  <a:pt x="1828800" y="365760"/>
                </a:lnTo>
                <a:lnTo>
                  <a:pt x="1828800" y="0"/>
                </a:lnTo>
                <a:lnTo>
                  <a:pt x="0" y="0"/>
                </a:lnTo>
                <a:lnTo>
                  <a:pt x="0" y="365760"/>
                </a:lnTo>
                <a:close/>
              </a:path>
            </a:pathLst>
          </a:custGeom>
          <a:solidFill>
            <a:srgbClr val="ddd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object 25"/>
          <p:cNvSpPr/>
          <p:nvPr/>
        </p:nvSpPr>
        <p:spPr>
          <a:xfrm>
            <a:off x="6629400" y="2941560"/>
            <a:ext cx="1828800" cy="36504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60"/>
                </a:moveTo>
                <a:lnTo>
                  <a:pt x="1828800" y="365760"/>
                </a:lnTo>
                <a:lnTo>
                  <a:pt x="1828800" y="0"/>
                </a:lnTo>
                <a:lnTo>
                  <a:pt x="0" y="0"/>
                </a:lnTo>
                <a:lnTo>
                  <a:pt x="0" y="365760"/>
                </a:lnTo>
                <a:close/>
              </a:path>
            </a:pathLst>
          </a:custGeom>
          <a:solidFill>
            <a:srgbClr val="ddd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object 26"/>
          <p:cNvSpPr/>
          <p:nvPr/>
        </p:nvSpPr>
        <p:spPr>
          <a:xfrm>
            <a:off x="4800600" y="3306600"/>
            <a:ext cx="1828800" cy="36684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59"/>
                </a:moveTo>
                <a:lnTo>
                  <a:pt x="1828800" y="365759"/>
                </a:lnTo>
                <a:lnTo>
                  <a:pt x="1828800" y="0"/>
                </a:lnTo>
                <a:lnTo>
                  <a:pt x="0" y="0"/>
                </a:lnTo>
                <a:lnTo>
                  <a:pt x="0" y="365759"/>
                </a:lnTo>
                <a:close/>
              </a:path>
            </a:pathLst>
          </a:custGeom>
          <a:solidFill>
            <a:srgbClr val="eff0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object 27"/>
          <p:cNvSpPr/>
          <p:nvPr/>
        </p:nvSpPr>
        <p:spPr>
          <a:xfrm>
            <a:off x="6629400" y="3306600"/>
            <a:ext cx="1828800" cy="36684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59"/>
                </a:moveTo>
                <a:lnTo>
                  <a:pt x="1828800" y="365759"/>
                </a:lnTo>
                <a:lnTo>
                  <a:pt x="1828800" y="0"/>
                </a:lnTo>
                <a:lnTo>
                  <a:pt x="0" y="0"/>
                </a:lnTo>
                <a:lnTo>
                  <a:pt x="0" y="365759"/>
                </a:lnTo>
                <a:close/>
              </a:path>
            </a:pathLst>
          </a:custGeom>
          <a:solidFill>
            <a:srgbClr val="eff0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" name="object 28"/>
          <p:cNvSpPr/>
          <p:nvPr/>
        </p:nvSpPr>
        <p:spPr>
          <a:xfrm>
            <a:off x="4800600" y="3673440"/>
            <a:ext cx="1828800" cy="36504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60"/>
                </a:moveTo>
                <a:lnTo>
                  <a:pt x="1828800" y="365760"/>
                </a:lnTo>
                <a:lnTo>
                  <a:pt x="1828800" y="0"/>
                </a:lnTo>
                <a:lnTo>
                  <a:pt x="0" y="0"/>
                </a:lnTo>
                <a:lnTo>
                  <a:pt x="0" y="365760"/>
                </a:lnTo>
                <a:close/>
              </a:path>
            </a:pathLst>
          </a:custGeom>
          <a:solidFill>
            <a:srgbClr val="ddd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object 29"/>
          <p:cNvSpPr/>
          <p:nvPr/>
        </p:nvSpPr>
        <p:spPr>
          <a:xfrm>
            <a:off x="6629400" y="3673440"/>
            <a:ext cx="1828800" cy="36504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60"/>
                </a:moveTo>
                <a:lnTo>
                  <a:pt x="1828800" y="365760"/>
                </a:lnTo>
                <a:lnTo>
                  <a:pt x="1828800" y="0"/>
                </a:lnTo>
                <a:lnTo>
                  <a:pt x="0" y="0"/>
                </a:lnTo>
                <a:lnTo>
                  <a:pt x="0" y="365760"/>
                </a:lnTo>
                <a:close/>
              </a:path>
            </a:pathLst>
          </a:custGeom>
          <a:solidFill>
            <a:srgbClr val="ddd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object 30"/>
          <p:cNvSpPr/>
          <p:nvPr/>
        </p:nvSpPr>
        <p:spPr>
          <a:xfrm>
            <a:off x="4800600" y="4038480"/>
            <a:ext cx="1828800" cy="36540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59"/>
                </a:moveTo>
                <a:lnTo>
                  <a:pt x="1828800" y="365759"/>
                </a:lnTo>
                <a:lnTo>
                  <a:pt x="1828800" y="0"/>
                </a:lnTo>
                <a:lnTo>
                  <a:pt x="0" y="0"/>
                </a:lnTo>
                <a:lnTo>
                  <a:pt x="0" y="365759"/>
                </a:lnTo>
                <a:close/>
              </a:path>
            </a:pathLst>
          </a:custGeom>
          <a:solidFill>
            <a:srgbClr val="eff0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object 31"/>
          <p:cNvSpPr/>
          <p:nvPr/>
        </p:nvSpPr>
        <p:spPr>
          <a:xfrm>
            <a:off x="6629400" y="4038480"/>
            <a:ext cx="1828800" cy="36540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59"/>
                </a:moveTo>
                <a:lnTo>
                  <a:pt x="1828800" y="365759"/>
                </a:lnTo>
                <a:lnTo>
                  <a:pt x="1828800" y="0"/>
                </a:lnTo>
                <a:lnTo>
                  <a:pt x="0" y="0"/>
                </a:lnTo>
                <a:lnTo>
                  <a:pt x="0" y="365759"/>
                </a:lnTo>
                <a:close/>
              </a:path>
            </a:pathLst>
          </a:custGeom>
          <a:solidFill>
            <a:srgbClr val="eff0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object 32"/>
          <p:cNvSpPr/>
          <p:nvPr/>
        </p:nvSpPr>
        <p:spPr>
          <a:xfrm>
            <a:off x="4800600" y="4403880"/>
            <a:ext cx="1828800" cy="36648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60"/>
                </a:moveTo>
                <a:lnTo>
                  <a:pt x="1828800" y="365760"/>
                </a:lnTo>
                <a:lnTo>
                  <a:pt x="1828800" y="0"/>
                </a:lnTo>
                <a:lnTo>
                  <a:pt x="0" y="0"/>
                </a:lnTo>
                <a:lnTo>
                  <a:pt x="0" y="365760"/>
                </a:lnTo>
                <a:close/>
              </a:path>
            </a:pathLst>
          </a:custGeom>
          <a:solidFill>
            <a:srgbClr val="ddd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object 33"/>
          <p:cNvSpPr/>
          <p:nvPr/>
        </p:nvSpPr>
        <p:spPr>
          <a:xfrm>
            <a:off x="6629400" y="4403880"/>
            <a:ext cx="1828800" cy="36648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60"/>
                </a:moveTo>
                <a:lnTo>
                  <a:pt x="1828800" y="365760"/>
                </a:lnTo>
                <a:lnTo>
                  <a:pt x="1828800" y="0"/>
                </a:lnTo>
                <a:lnTo>
                  <a:pt x="0" y="0"/>
                </a:lnTo>
                <a:lnTo>
                  <a:pt x="0" y="365760"/>
                </a:lnTo>
                <a:close/>
              </a:path>
            </a:pathLst>
          </a:custGeom>
          <a:solidFill>
            <a:srgbClr val="ddd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object 34"/>
          <p:cNvSpPr/>
          <p:nvPr/>
        </p:nvSpPr>
        <p:spPr>
          <a:xfrm>
            <a:off x="4800600" y="4770360"/>
            <a:ext cx="1828800" cy="36504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59"/>
                </a:moveTo>
                <a:lnTo>
                  <a:pt x="1828800" y="365759"/>
                </a:lnTo>
                <a:lnTo>
                  <a:pt x="1828800" y="0"/>
                </a:lnTo>
                <a:lnTo>
                  <a:pt x="0" y="0"/>
                </a:lnTo>
                <a:lnTo>
                  <a:pt x="0" y="365759"/>
                </a:lnTo>
                <a:close/>
              </a:path>
            </a:pathLst>
          </a:custGeom>
          <a:solidFill>
            <a:srgbClr val="eff0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7" name="object 35"/>
          <p:cNvSpPr/>
          <p:nvPr/>
        </p:nvSpPr>
        <p:spPr>
          <a:xfrm>
            <a:off x="6629400" y="4770360"/>
            <a:ext cx="1828800" cy="36504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59"/>
                </a:moveTo>
                <a:lnTo>
                  <a:pt x="1828800" y="365759"/>
                </a:lnTo>
                <a:lnTo>
                  <a:pt x="1828800" y="0"/>
                </a:lnTo>
                <a:lnTo>
                  <a:pt x="0" y="0"/>
                </a:lnTo>
                <a:lnTo>
                  <a:pt x="0" y="365759"/>
                </a:lnTo>
                <a:close/>
              </a:path>
            </a:pathLst>
          </a:custGeom>
          <a:solidFill>
            <a:srgbClr val="eff0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object 36"/>
          <p:cNvSpPr/>
          <p:nvPr/>
        </p:nvSpPr>
        <p:spPr>
          <a:xfrm>
            <a:off x="4800600" y="5135400"/>
            <a:ext cx="1828800" cy="36684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60"/>
                </a:moveTo>
                <a:lnTo>
                  <a:pt x="1828800" y="365760"/>
                </a:lnTo>
                <a:lnTo>
                  <a:pt x="1828800" y="0"/>
                </a:lnTo>
                <a:lnTo>
                  <a:pt x="0" y="0"/>
                </a:lnTo>
                <a:lnTo>
                  <a:pt x="0" y="365760"/>
                </a:lnTo>
                <a:close/>
              </a:path>
            </a:pathLst>
          </a:custGeom>
          <a:solidFill>
            <a:srgbClr val="ddd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object 37"/>
          <p:cNvSpPr/>
          <p:nvPr/>
        </p:nvSpPr>
        <p:spPr>
          <a:xfrm>
            <a:off x="6629400" y="5135400"/>
            <a:ext cx="1828800" cy="36684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60"/>
                </a:moveTo>
                <a:lnTo>
                  <a:pt x="1828800" y="365760"/>
                </a:lnTo>
                <a:lnTo>
                  <a:pt x="1828800" y="0"/>
                </a:lnTo>
                <a:lnTo>
                  <a:pt x="0" y="0"/>
                </a:lnTo>
                <a:lnTo>
                  <a:pt x="0" y="365760"/>
                </a:lnTo>
                <a:close/>
              </a:path>
            </a:pathLst>
          </a:custGeom>
          <a:solidFill>
            <a:srgbClr val="ddd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0" name="object 38"/>
          <p:cNvSpPr/>
          <p:nvPr/>
        </p:nvSpPr>
        <p:spPr>
          <a:xfrm>
            <a:off x="4800600" y="5502240"/>
            <a:ext cx="1828800" cy="36504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59"/>
                </a:moveTo>
                <a:lnTo>
                  <a:pt x="1828800" y="365759"/>
                </a:lnTo>
                <a:lnTo>
                  <a:pt x="1828800" y="0"/>
                </a:lnTo>
                <a:lnTo>
                  <a:pt x="0" y="0"/>
                </a:lnTo>
                <a:lnTo>
                  <a:pt x="0" y="365759"/>
                </a:lnTo>
                <a:close/>
              </a:path>
            </a:pathLst>
          </a:custGeom>
          <a:solidFill>
            <a:srgbClr val="eff0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1" name="object 39"/>
          <p:cNvSpPr/>
          <p:nvPr/>
        </p:nvSpPr>
        <p:spPr>
          <a:xfrm>
            <a:off x="6629400" y="5502240"/>
            <a:ext cx="1828800" cy="365040"/>
          </a:xfrm>
          <a:custGeom>
            <a:avLst/>
            <a:gdLst/>
            <a:ahLst/>
            <a:rect l="l" t="t" r="r" b="b"/>
            <a:pathLst>
              <a:path w="1828800" h="365760">
                <a:moveTo>
                  <a:pt x="0" y="365759"/>
                </a:moveTo>
                <a:lnTo>
                  <a:pt x="1828800" y="365759"/>
                </a:lnTo>
                <a:lnTo>
                  <a:pt x="1828800" y="0"/>
                </a:lnTo>
                <a:lnTo>
                  <a:pt x="0" y="0"/>
                </a:lnTo>
                <a:lnTo>
                  <a:pt x="0" y="365759"/>
                </a:lnTo>
                <a:close/>
              </a:path>
            </a:pathLst>
          </a:custGeom>
          <a:solidFill>
            <a:srgbClr val="eff0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2" name="object 40"/>
          <p:cNvSpPr/>
          <p:nvPr/>
        </p:nvSpPr>
        <p:spPr>
          <a:xfrm>
            <a:off x="6629400" y="374760"/>
            <a:ext cx="360" cy="5499000"/>
          </a:xfrm>
          <a:custGeom>
            <a:avLst/>
            <a:gdLst/>
            <a:ahLst/>
            <a:rect l="l" t="t" r="r" b="b"/>
            <a:pathLst>
              <a:path w="0" h="5499100">
                <a:moveTo>
                  <a:pt x="0" y="0"/>
                </a:moveTo>
                <a:lnTo>
                  <a:pt x="0" y="5499099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" name="object 41"/>
          <p:cNvSpPr/>
          <p:nvPr/>
        </p:nvSpPr>
        <p:spPr>
          <a:xfrm>
            <a:off x="4794120" y="746280"/>
            <a:ext cx="3670560" cy="360"/>
          </a:xfrm>
          <a:custGeom>
            <a:avLst/>
            <a:gdLst/>
            <a:ahLst/>
            <a:rect l="l" t="t" r="r" b="b"/>
            <a:pathLst>
              <a:path w="3670300" h="0">
                <a:moveTo>
                  <a:pt x="0" y="0"/>
                </a:moveTo>
                <a:lnTo>
                  <a:pt x="3670299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object 42"/>
          <p:cNvSpPr/>
          <p:nvPr/>
        </p:nvSpPr>
        <p:spPr>
          <a:xfrm>
            <a:off x="4794120" y="1112760"/>
            <a:ext cx="3670560" cy="360"/>
          </a:xfrm>
          <a:custGeom>
            <a:avLst/>
            <a:gdLst/>
            <a:ahLst/>
            <a:rect l="l" t="t" r="r" b="b"/>
            <a:pathLst>
              <a:path w="3670300" h="0">
                <a:moveTo>
                  <a:pt x="0" y="0"/>
                </a:moveTo>
                <a:lnTo>
                  <a:pt x="3670299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5" name="object 43"/>
          <p:cNvSpPr/>
          <p:nvPr/>
        </p:nvSpPr>
        <p:spPr>
          <a:xfrm>
            <a:off x="4794120" y="1477800"/>
            <a:ext cx="3670560" cy="360"/>
          </a:xfrm>
          <a:custGeom>
            <a:avLst/>
            <a:gdLst/>
            <a:ahLst/>
            <a:rect l="l" t="t" r="r" b="b"/>
            <a:pathLst>
              <a:path w="3670300" h="0">
                <a:moveTo>
                  <a:pt x="0" y="0"/>
                </a:moveTo>
                <a:lnTo>
                  <a:pt x="3670299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6" name="object 44"/>
          <p:cNvSpPr/>
          <p:nvPr/>
        </p:nvSpPr>
        <p:spPr>
          <a:xfrm>
            <a:off x="4794120" y="1844640"/>
            <a:ext cx="3670560" cy="360"/>
          </a:xfrm>
          <a:custGeom>
            <a:avLst/>
            <a:gdLst/>
            <a:ahLst/>
            <a:rect l="l" t="t" r="r" b="b"/>
            <a:pathLst>
              <a:path w="3670300" h="0">
                <a:moveTo>
                  <a:pt x="0" y="0"/>
                </a:moveTo>
                <a:lnTo>
                  <a:pt x="3670299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7" name="object 45"/>
          <p:cNvSpPr/>
          <p:nvPr/>
        </p:nvSpPr>
        <p:spPr>
          <a:xfrm>
            <a:off x="4794120" y="2209680"/>
            <a:ext cx="3670560" cy="360"/>
          </a:xfrm>
          <a:custGeom>
            <a:avLst/>
            <a:gdLst/>
            <a:ahLst/>
            <a:rect l="l" t="t" r="r" b="b"/>
            <a:pathLst>
              <a:path w="3670300" h="0">
                <a:moveTo>
                  <a:pt x="0" y="0"/>
                </a:moveTo>
                <a:lnTo>
                  <a:pt x="3670299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8" name="object 46"/>
          <p:cNvSpPr/>
          <p:nvPr/>
        </p:nvSpPr>
        <p:spPr>
          <a:xfrm>
            <a:off x="4794120" y="2575080"/>
            <a:ext cx="3670560" cy="360"/>
          </a:xfrm>
          <a:custGeom>
            <a:avLst/>
            <a:gdLst/>
            <a:ahLst/>
            <a:rect l="l" t="t" r="r" b="b"/>
            <a:pathLst>
              <a:path w="3670300" h="0">
                <a:moveTo>
                  <a:pt x="0" y="0"/>
                </a:moveTo>
                <a:lnTo>
                  <a:pt x="3670299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object 47"/>
          <p:cNvSpPr/>
          <p:nvPr/>
        </p:nvSpPr>
        <p:spPr>
          <a:xfrm>
            <a:off x="4794120" y="2941560"/>
            <a:ext cx="3670560" cy="360"/>
          </a:xfrm>
          <a:custGeom>
            <a:avLst/>
            <a:gdLst/>
            <a:ahLst/>
            <a:rect l="l" t="t" r="r" b="b"/>
            <a:pathLst>
              <a:path w="3670300" h="0">
                <a:moveTo>
                  <a:pt x="0" y="0"/>
                </a:moveTo>
                <a:lnTo>
                  <a:pt x="3670299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0" name="object 48"/>
          <p:cNvSpPr/>
          <p:nvPr/>
        </p:nvSpPr>
        <p:spPr>
          <a:xfrm>
            <a:off x="4794120" y="3306600"/>
            <a:ext cx="3670560" cy="360"/>
          </a:xfrm>
          <a:custGeom>
            <a:avLst/>
            <a:gdLst/>
            <a:ahLst/>
            <a:rect l="l" t="t" r="r" b="b"/>
            <a:pathLst>
              <a:path w="3670300" h="0">
                <a:moveTo>
                  <a:pt x="0" y="0"/>
                </a:moveTo>
                <a:lnTo>
                  <a:pt x="3670299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1" name="object 49"/>
          <p:cNvSpPr/>
          <p:nvPr/>
        </p:nvSpPr>
        <p:spPr>
          <a:xfrm>
            <a:off x="4794120" y="3673440"/>
            <a:ext cx="3670560" cy="360"/>
          </a:xfrm>
          <a:custGeom>
            <a:avLst/>
            <a:gdLst/>
            <a:ahLst/>
            <a:rect l="l" t="t" r="r" b="b"/>
            <a:pathLst>
              <a:path w="3670300" h="0">
                <a:moveTo>
                  <a:pt x="0" y="0"/>
                </a:moveTo>
                <a:lnTo>
                  <a:pt x="3670299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" name="object 50"/>
          <p:cNvSpPr/>
          <p:nvPr/>
        </p:nvSpPr>
        <p:spPr>
          <a:xfrm>
            <a:off x="4794120" y="4038480"/>
            <a:ext cx="3670560" cy="360"/>
          </a:xfrm>
          <a:custGeom>
            <a:avLst/>
            <a:gdLst/>
            <a:ahLst/>
            <a:rect l="l" t="t" r="r" b="b"/>
            <a:pathLst>
              <a:path w="3670300" h="0">
                <a:moveTo>
                  <a:pt x="0" y="0"/>
                </a:moveTo>
                <a:lnTo>
                  <a:pt x="3670299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object 51"/>
          <p:cNvSpPr/>
          <p:nvPr/>
        </p:nvSpPr>
        <p:spPr>
          <a:xfrm>
            <a:off x="4794120" y="4403880"/>
            <a:ext cx="3670560" cy="360"/>
          </a:xfrm>
          <a:custGeom>
            <a:avLst/>
            <a:gdLst/>
            <a:ahLst/>
            <a:rect l="l" t="t" r="r" b="b"/>
            <a:pathLst>
              <a:path w="3670300" h="0">
                <a:moveTo>
                  <a:pt x="0" y="0"/>
                </a:moveTo>
                <a:lnTo>
                  <a:pt x="3670299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4" name="object 52"/>
          <p:cNvSpPr/>
          <p:nvPr/>
        </p:nvSpPr>
        <p:spPr>
          <a:xfrm>
            <a:off x="4794120" y="4770360"/>
            <a:ext cx="3670560" cy="360"/>
          </a:xfrm>
          <a:custGeom>
            <a:avLst/>
            <a:gdLst/>
            <a:ahLst/>
            <a:rect l="l" t="t" r="r" b="b"/>
            <a:pathLst>
              <a:path w="3670300" h="0">
                <a:moveTo>
                  <a:pt x="0" y="0"/>
                </a:moveTo>
                <a:lnTo>
                  <a:pt x="3670299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5" name="object 53"/>
          <p:cNvSpPr/>
          <p:nvPr/>
        </p:nvSpPr>
        <p:spPr>
          <a:xfrm>
            <a:off x="4794120" y="5135400"/>
            <a:ext cx="3670560" cy="360"/>
          </a:xfrm>
          <a:custGeom>
            <a:avLst/>
            <a:gdLst/>
            <a:ahLst/>
            <a:rect l="l" t="t" r="r" b="b"/>
            <a:pathLst>
              <a:path w="3670300" h="0">
                <a:moveTo>
                  <a:pt x="0" y="0"/>
                </a:moveTo>
                <a:lnTo>
                  <a:pt x="3670299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6" name="object 54"/>
          <p:cNvSpPr/>
          <p:nvPr/>
        </p:nvSpPr>
        <p:spPr>
          <a:xfrm>
            <a:off x="4794120" y="5502240"/>
            <a:ext cx="3670560" cy="360"/>
          </a:xfrm>
          <a:custGeom>
            <a:avLst/>
            <a:gdLst/>
            <a:ahLst/>
            <a:rect l="l" t="t" r="r" b="b"/>
            <a:pathLst>
              <a:path w="3670300" h="0">
                <a:moveTo>
                  <a:pt x="0" y="0"/>
                </a:moveTo>
                <a:lnTo>
                  <a:pt x="3670299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object 55"/>
          <p:cNvSpPr/>
          <p:nvPr/>
        </p:nvSpPr>
        <p:spPr>
          <a:xfrm>
            <a:off x="4800600" y="374760"/>
            <a:ext cx="360" cy="5499000"/>
          </a:xfrm>
          <a:custGeom>
            <a:avLst/>
            <a:gdLst/>
            <a:ahLst/>
            <a:rect l="l" t="t" r="r" b="b"/>
            <a:pathLst>
              <a:path w="0" h="5499100">
                <a:moveTo>
                  <a:pt x="0" y="0"/>
                </a:moveTo>
                <a:lnTo>
                  <a:pt x="0" y="5499099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8" name="object 56"/>
          <p:cNvSpPr/>
          <p:nvPr/>
        </p:nvSpPr>
        <p:spPr>
          <a:xfrm>
            <a:off x="8458200" y="374760"/>
            <a:ext cx="360" cy="5499000"/>
          </a:xfrm>
          <a:custGeom>
            <a:avLst/>
            <a:gdLst/>
            <a:ahLst/>
            <a:rect l="l" t="t" r="r" b="b"/>
            <a:pathLst>
              <a:path w="0" h="5499100">
                <a:moveTo>
                  <a:pt x="0" y="0"/>
                </a:moveTo>
                <a:lnTo>
                  <a:pt x="0" y="5499099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9" name="object 57"/>
          <p:cNvSpPr/>
          <p:nvPr/>
        </p:nvSpPr>
        <p:spPr>
          <a:xfrm>
            <a:off x="4794120" y="380880"/>
            <a:ext cx="3670560" cy="360"/>
          </a:xfrm>
          <a:custGeom>
            <a:avLst/>
            <a:gdLst/>
            <a:ahLst/>
            <a:rect l="l" t="t" r="r" b="b"/>
            <a:pathLst>
              <a:path w="3670300" h="0">
                <a:moveTo>
                  <a:pt x="0" y="0"/>
                </a:moveTo>
                <a:lnTo>
                  <a:pt x="3670299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0" name="object 58"/>
          <p:cNvSpPr/>
          <p:nvPr/>
        </p:nvSpPr>
        <p:spPr>
          <a:xfrm>
            <a:off x="4794120" y="5867280"/>
            <a:ext cx="3670560" cy="360"/>
          </a:xfrm>
          <a:custGeom>
            <a:avLst/>
            <a:gdLst/>
            <a:ahLst/>
            <a:rect l="l" t="t" r="r" b="b"/>
            <a:pathLst>
              <a:path w="3670300" h="0">
                <a:moveTo>
                  <a:pt x="0" y="0"/>
                </a:moveTo>
                <a:lnTo>
                  <a:pt x="3670299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object 59"/>
          <p:cNvSpPr/>
          <p:nvPr/>
        </p:nvSpPr>
        <p:spPr>
          <a:xfrm>
            <a:off x="5492880" y="414360"/>
            <a:ext cx="45072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ill Sans MT"/>
                <a:ea typeface="Gill Sans MT"/>
              </a:rPr>
              <a:t>Ag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2" name="object 60"/>
          <p:cNvSpPr/>
          <p:nvPr/>
        </p:nvSpPr>
        <p:spPr>
          <a:xfrm>
            <a:off x="6853320" y="414360"/>
            <a:ext cx="138744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ill Sans MT"/>
                <a:ea typeface="Gill Sans MT"/>
              </a:rPr>
              <a:t>Recommen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3" name="object 61"/>
          <p:cNvSpPr/>
          <p:nvPr/>
        </p:nvSpPr>
        <p:spPr>
          <a:xfrm>
            <a:off x="5591160" y="779400"/>
            <a:ext cx="254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31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object 62"/>
          <p:cNvSpPr/>
          <p:nvPr/>
        </p:nvSpPr>
        <p:spPr>
          <a:xfrm>
            <a:off x="7477200" y="779400"/>
            <a:ext cx="139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2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object 63"/>
          <p:cNvSpPr/>
          <p:nvPr/>
        </p:nvSpPr>
        <p:spPr>
          <a:xfrm>
            <a:off x="5591160" y="1146240"/>
            <a:ext cx="254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26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object 64"/>
          <p:cNvSpPr/>
          <p:nvPr/>
        </p:nvSpPr>
        <p:spPr>
          <a:xfrm>
            <a:off x="7477200" y="1146240"/>
            <a:ext cx="139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3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7" name="object 65"/>
          <p:cNvSpPr/>
          <p:nvPr/>
        </p:nvSpPr>
        <p:spPr>
          <a:xfrm>
            <a:off x="5591160" y="1511280"/>
            <a:ext cx="254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32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8" name="object 66"/>
          <p:cNvSpPr/>
          <p:nvPr/>
        </p:nvSpPr>
        <p:spPr>
          <a:xfrm>
            <a:off x="7477200" y="1511280"/>
            <a:ext cx="139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4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object 67"/>
          <p:cNvSpPr/>
          <p:nvPr/>
        </p:nvSpPr>
        <p:spPr>
          <a:xfrm>
            <a:off x="5591160" y="1876320"/>
            <a:ext cx="254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37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0" name="object 68"/>
          <p:cNvSpPr/>
          <p:nvPr/>
        </p:nvSpPr>
        <p:spPr>
          <a:xfrm>
            <a:off x="7477200" y="1876320"/>
            <a:ext cx="139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5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1" name="object 69"/>
          <p:cNvSpPr/>
          <p:nvPr/>
        </p:nvSpPr>
        <p:spPr>
          <a:xfrm>
            <a:off x="5591160" y="2243160"/>
            <a:ext cx="254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18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2" name="object 70"/>
          <p:cNvSpPr/>
          <p:nvPr/>
        </p:nvSpPr>
        <p:spPr>
          <a:xfrm>
            <a:off x="7477200" y="2243160"/>
            <a:ext cx="139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4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object 71"/>
          <p:cNvSpPr/>
          <p:nvPr/>
        </p:nvSpPr>
        <p:spPr>
          <a:xfrm>
            <a:off x="5591160" y="2608200"/>
            <a:ext cx="254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31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4" name="object 72"/>
          <p:cNvSpPr/>
          <p:nvPr/>
        </p:nvSpPr>
        <p:spPr>
          <a:xfrm>
            <a:off x="7477200" y="2608200"/>
            <a:ext cx="139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5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5" name="object 73"/>
          <p:cNvSpPr/>
          <p:nvPr/>
        </p:nvSpPr>
        <p:spPr>
          <a:xfrm>
            <a:off x="5591160" y="2975040"/>
            <a:ext cx="254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38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object 74"/>
          <p:cNvSpPr/>
          <p:nvPr/>
        </p:nvSpPr>
        <p:spPr>
          <a:xfrm>
            <a:off x="7477200" y="2975040"/>
            <a:ext cx="139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4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7" name="object 75"/>
          <p:cNvSpPr/>
          <p:nvPr/>
        </p:nvSpPr>
        <p:spPr>
          <a:xfrm>
            <a:off x="5591160" y="3340080"/>
            <a:ext cx="254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49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8" name="object 76"/>
          <p:cNvSpPr/>
          <p:nvPr/>
        </p:nvSpPr>
        <p:spPr>
          <a:xfrm>
            <a:off x="7477200" y="3340080"/>
            <a:ext cx="139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2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9" name="object 77"/>
          <p:cNvSpPr/>
          <p:nvPr/>
        </p:nvSpPr>
        <p:spPr>
          <a:xfrm>
            <a:off x="5591160" y="3705120"/>
            <a:ext cx="254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35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0" name="object 78"/>
          <p:cNvSpPr/>
          <p:nvPr/>
        </p:nvSpPr>
        <p:spPr>
          <a:xfrm>
            <a:off x="7477200" y="3705120"/>
            <a:ext cx="139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4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1" name="object 79"/>
          <p:cNvSpPr/>
          <p:nvPr/>
        </p:nvSpPr>
        <p:spPr>
          <a:xfrm>
            <a:off x="5591160" y="4071960"/>
            <a:ext cx="254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37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2" name="object 80"/>
          <p:cNvSpPr/>
          <p:nvPr/>
        </p:nvSpPr>
        <p:spPr>
          <a:xfrm>
            <a:off x="7477200" y="4071960"/>
            <a:ext cx="139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3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3" name="object 81"/>
          <p:cNvSpPr/>
          <p:nvPr/>
        </p:nvSpPr>
        <p:spPr>
          <a:xfrm>
            <a:off x="5591160" y="4437000"/>
            <a:ext cx="254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43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object 82"/>
          <p:cNvSpPr/>
          <p:nvPr/>
        </p:nvSpPr>
        <p:spPr>
          <a:xfrm>
            <a:off x="7477200" y="4437000"/>
            <a:ext cx="139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4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5" name="object 83"/>
          <p:cNvSpPr/>
          <p:nvPr/>
        </p:nvSpPr>
        <p:spPr>
          <a:xfrm>
            <a:off x="5591160" y="4803840"/>
            <a:ext cx="254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41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6" name="object 84"/>
          <p:cNvSpPr/>
          <p:nvPr/>
        </p:nvSpPr>
        <p:spPr>
          <a:xfrm>
            <a:off x="7477200" y="4803840"/>
            <a:ext cx="139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5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7" name="object 85"/>
          <p:cNvSpPr/>
          <p:nvPr/>
        </p:nvSpPr>
        <p:spPr>
          <a:xfrm>
            <a:off x="5591160" y="5168880"/>
            <a:ext cx="254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49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8" name="object 86"/>
          <p:cNvSpPr/>
          <p:nvPr/>
        </p:nvSpPr>
        <p:spPr>
          <a:xfrm>
            <a:off x="7477200" y="5168880"/>
            <a:ext cx="139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4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9" name="object 87"/>
          <p:cNvSpPr/>
          <p:nvPr/>
        </p:nvSpPr>
        <p:spPr>
          <a:xfrm>
            <a:off x="5591160" y="5533920"/>
            <a:ext cx="254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40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object 88"/>
          <p:cNvSpPr/>
          <p:nvPr/>
        </p:nvSpPr>
        <p:spPr>
          <a:xfrm>
            <a:off x="7477200" y="5533920"/>
            <a:ext cx="139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Gill Sans MT"/>
                <a:ea typeface="Gill Sans MT"/>
              </a:rPr>
              <a:t>2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1" name="Date Placeholder 8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8441-D4B7-4473-B167-84676F2D4BB1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85840" y="395280"/>
            <a:ext cx="382248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bba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object 3"/>
          <p:cNvSpPr/>
          <p:nvPr/>
        </p:nvSpPr>
        <p:spPr>
          <a:xfrm>
            <a:off x="539640" y="1700280"/>
            <a:ext cx="7751880" cy="26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spAutoFit/>
          </a:bodyPr>
          <a:p>
            <a:pPr marL="12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Step 2: Run the Frequencies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Analyze </a:t>
            </a:r>
            <a:r>
              <a:rPr b="0" lang="en-US" sz="2600" spc="-1" strike="noStrike">
                <a:solidFill>
                  <a:srgbClr val="5f5f5f"/>
                </a:solidFill>
                <a:latin typeface="Wingdings"/>
                <a:ea typeface="Wingdings"/>
              </a:rPr>
              <a:t></a:t>
            </a:r>
            <a:r>
              <a:rPr b="0" lang="en-US" sz="26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Descriptive Statistics </a:t>
            </a:r>
            <a:r>
              <a:rPr b="0" lang="en-US" sz="2600" spc="-1" strike="noStrike">
                <a:solidFill>
                  <a:srgbClr val="5f5f5f"/>
                </a:solidFill>
                <a:latin typeface="Wingdings"/>
                <a:ea typeface="Wingdings"/>
              </a:rPr>
              <a:t></a:t>
            </a:r>
            <a:r>
              <a:rPr b="0" lang="en-US" sz="26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Frequencies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ts val="3098"/>
              </a:lnSpc>
              <a:spcBef>
                <a:spcPts val="70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Move variables to the Variables box (select the variables  and click on the arrow).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Click OK.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Date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9E0A-80B0-4F9D-A3C1-E655F2A35005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424980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bba"/>
                </a:solidFill>
                <a:latin typeface="Arial"/>
              </a:rPr>
              <a:t>Example (cont.)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4840" y="147600"/>
            <a:ext cx="1873080" cy="148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12600" bIns="0" anchor="ctr">
            <a:noAutofit/>
          </a:bodyPr>
          <a:p>
            <a:pPr marL="12600" indent="0">
              <a:spcBef>
                <a:spcPts val="99"/>
              </a:spcBef>
              <a:buNone/>
              <a:tabLst>
                <a:tab algn="l" pos="0"/>
                <a:tab algn="l" pos="824076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2bb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42bba"/>
                </a:solidFill>
                <a:latin typeface="Arial"/>
              </a:rPr>
              <a:t>Example</a:t>
            </a:r>
            <a:r>
              <a:rPr b="1" lang="ru-RU" sz="3200" spc="-1" strike="noStrike">
                <a:solidFill>
                  <a:srgbClr val="042bba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267" name="object 3"/>
          <p:cNvSpPr/>
          <p:nvPr/>
        </p:nvSpPr>
        <p:spPr>
          <a:xfrm>
            <a:off x="536400" y="1252440"/>
            <a:ext cx="792828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spAutoFit/>
          </a:bodyPr>
          <a:p>
            <a:pPr marL="279360" indent="-266760">
              <a:lnSpc>
                <a:spcPts val="3098"/>
              </a:lnSpc>
              <a:spcBef>
                <a:spcPts val="224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Frequency distribution showing the ages of students who  took the online course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8" name="object 4"/>
          <p:cNvSpPr/>
          <p:nvPr/>
        </p:nvSpPr>
        <p:spPr>
          <a:xfrm>
            <a:off x="1752480" y="2022480"/>
            <a:ext cx="5653080" cy="4132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9" name="Date Placeholder 4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F7CA-7684-4FB6-BD68-612C510F86F9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object 3"/>
          <p:cNvSpPr/>
          <p:nvPr/>
        </p:nvSpPr>
        <p:spPr>
          <a:xfrm>
            <a:off x="536400" y="1252440"/>
            <a:ext cx="723924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spAutoFit/>
          </a:bodyPr>
          <a:p>
            <a:pPr marL="279360" indent="-266760">
              <a:lnSpc>
                <a:spcPts val="3098"/>
              </a:lnSpc>
              <a:spcBef>
                <a:spcPts val="224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Student responses when asked whether or not they  would recommend the online course to others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object 4"/>
          <p:cNvSpPr/>
          <p:nvPr/>
        </p:nvSpPr>
        <p:spPr>
          <a:xfrm>
            <a:off x="536400" y="4948200"/>
            <a:ext cx="51120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ru-RU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Most would recommend the course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2" name="object 5"/>
          <p:cNvSpPr/>
          <p:nvPr/>
        </p:nvSpPr>
        <p:spPr>
          <a:xfrm>
            <a:off x="971640" y="2398680"/>
            <a:ext cx="7167600" cy="2247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3" name="Date Placeholder 5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4390-665C-4650-B68C-8E1D75813A40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452160"/>
            <a:ext cx="403200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bba"/>
                </a:solidFill>
                <a:latin typeface="Arial"/>
              </a:rPr>
              <a:t>Example (cont.)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object 3"/>
          <p:cNvSpPr/>
          <p:nvPr/>
        </p:nvSpPr>
        <p:spPr>
          <a:xfrm>
            <a:off x="826920" y="2421000"/>
            <a:ext cx="70866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8254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Bookman Old Style"/>
                <a:ea typeface="Bookman Old Style"/>
              </a:rPr>
              <a:t>Running Descriptive Statistic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6" name="Date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ED48-7722-4521-B7D4-25F0C92DFFAE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1440"/>
            <a:ext cx="6553080" cy="159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500400" bIns="0" anchor="ctr">
            <a:noAutofit/>
          </a:bodyPr>
          <a:p>
            <a:pPr marL="12600" indent="0">
              <a:spcBef>
                <a:spcPts val="99"/>
              </a:spcBef>
              <a:buNone/>
              <a:tabLst>
                <a:tab algn="l" pos="0"/>
                <a:tab algn="l" pos="824076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Overview</a:t>
            </a: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93" name="object 3"/>
          <p:cNvSpPr/>
          <p:nvPr/>
        </p:nvSpPr>
        <p:spPr>
          <a:xfrm>
            <a:off x="536400" y="1177920"/>
            <a:ext cx="431964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spAutoFit/>
          </a:bodyPr>
          <a:p>
            <a:pPr marL="12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ru-RU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Measures of Central Tendency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ru-RU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Measures of Variability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ru-RU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Frequency Distributions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ru-RU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Running Descriptive Statistics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Date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8F64-6D0D-4C0A-AD26-853EA2415252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25600" y="506520"/>
            <a:ext cx="3024000" cy="14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12600" bIns="0" anchor="ctr">
            <a:noAutofit/>
          </a:bodyPr>
          <a:p>
            <a:pPr marL="12600" indent="0">
              <a:spcBef>
                <a:spcPts val="99"/>
              </a:spcBef>
              <a:buNone/>
              <a:tabLst>
                <a:tab algn="l" pos="0"/>
                <a:tab algn="l" pos="824076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2bb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42bba"/>
                </a:solidFill>
                <a:latin typeface="Arial"/>
              </a:rPr>
              <a:t>Example</a:t>
            </a:r>
            <a:r>
              <a:rPr b="1" lang="ru-RU" sz="3200" spc="-1" strike="noStrike">
                <a:solidFill>
                  <a:srgbClr val="042bba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278" name="object 3"/>
          <p:cNvSpPr/>
          <p:nvPr/>
        </p:nvSpPr>
        <p:spPr>
          <a:xfrm>
            <a:off x="395280" y="2637000"/>
            <a:ext cx="783576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spAutoFit/>
          </a:bodyPr>
          <a:p>
            <a:pPr marL="279360" indent="-266760">
              <a:lnSpc>
                <a:spcPts val="3098"/>
              </a:lnSpc>
              <a:spcBef>
                <a:spcPts val="224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Are there differences in the anxiety levels of students  who have had statistics before versus students who have  never had statistics?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9" name="Date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F733-F2A8-4FA3-A408-83BBC67ED7FA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object 3"/>
          <p:cNvSpPr/>
          <p:nvPr/>
        </p:nvSpPr>
        <p:spPr>
          <a:xfrm>
            <a:off x="393840" y="1090440"/>
            <a:ext cx="74930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ru-RU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Step 1: Input the data into SPSS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 (or excel)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660760" y="1898640"/>
          <a:ext cx="3276360" cy="429120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</a:tblGrid>
              <a:tr h="639720">
                <a:tc>
                  <a:txBody>
                    <a:bodyPr lIns="0" rIns="0" bIns="0" anchor="t">
                      <a:noAutofit/>
                    </a:bodyPr>
                    <a:p>
                      <a:pPr marL="324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  <a:ea typeface="Gill Sans MT"/>
                        </a:rPr>
                        <a:t>Stats History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590b2"/>
                    </a:solidFill>
                  </a:tcPr>
                </a:tc>
                <a:tc>
                  <a:txBody>
                    <a:bodyPr lIns="0" rIns="0" tIns="60840" bIns="0" anchor="t">
                      <a:noAutofit/>
                    </a:bodyPr>
                    <a:p>
                      <a:pPr marL="514440" indent="-111240">
                        <a:lnSpc>
                          <a:spcPts val="2098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  <a:ea typeface="Gill Sans MT"/>
                        </a:rPr>
                        <a:t>Anxiety  Score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590b2"/>
                    </a:solidFill>
                  </a:tcPr>
                </a:tc>
              </a:tr>
              <a:tr h="365040">
                <a:tc>
                  <a:txBody>
                    <a:bodyPr lIns="0" r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Gill Sans MT"/>
                          <a:ea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fe6"/>
                    </a:solidFill>
                  </a:tcPr>
                </a:tc>
                <a:tc>
                  <a:txBody>
                    <a:bodyPr lIns="0" r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Gill Sans MT"/>
                          <a:ea typeface="Gill Sans MT"/>
                        </a:rPr>
                        <a:t>9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fe6"/>
                    </a:solidFill>
                  </a:tcPr>
                </a:tc>
              </a:tr>
              <a:tr h="365400">
                <a:tc>
                  <a:txBody>
                    <a:bodyPr lIns="0" r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Gill Sans MT"/>
                          <a:ea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0f3"/>
                    </a:solidFill>
                  </a:tcPr>
                </a:tc>
                <a:tc>
                  <a:txBody>
                    <a:bodyPr lIns="0" r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Gill Sans MT"/>
                          <a:ea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0f3"/>
                    </a:solidFill>
                  </a:tcPr>
                </a:tc>
              </a:tr>
              <a:tr h="365040">
                <a:tc>
                  <a:txBody>
                    <a:bodyPr lIns="0" r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Gill Sans MT"/>
                          <a:ea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fe6"/>
                    </a:solidFill>
                  </a:tcPr>
                </a:tc>
                <a:tc>
                  <a:txBody>
                    <a:bodyPr lIns="0" r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Gill Sans MT"/>
                          <a:ea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fe6"/>
                    </a:solidFill>
                  </a:tcPr>
                </a:tc>
              </a:tr>
              <a:tr h="365040">
                <a:tc>
                  <a:txBody>
                    <a:bodyPr lIns="0" r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Gill Sans MT"/>
                          <a:ea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0f3"/>
                    </a:solidFill>
                  </a:tcPr>
                </a:tc>
                <a:tc>
                  <a:txBody>
                    <a:bodyPr lIns="0" r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Gill Sans MT"/>
                          <a:ea typeface="Gill Sans MT"/>
                        </a:rPr>
                        <a:t>9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0f3"/>
                    </a:solidFill>
                  </a:tcPr>
                </a:tc>
              </a:tr>
              <a:tr h="365040">
                <a:tc>
                  <a:txBody>
                    <a:bodyPr lIns="0" r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Gill Sans MT"/>
                          <a:ea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fe6"/>
                    </a:solidFill>
                  </a:tcPr>
                </a:tc>
                <a:tc>
                  <a:txBody>
                    <a:bodyPr lIns="0" r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Gill Sans MT"/>
                          <a:ea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fe6"/>
                    </a:solidFill>
                  </a:tcPr>
                </a:tc>
              </a:tr>
              <a:tr h="365400">
                <a:tc>
                  <a:txBody>
                    <a:bodyPr lIns="0" r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Gill Sans MT"/>
                          <a:ea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0f3"/>
                    </a:solidFill>
                  </a:tcPr>
                </a:tc>
                <a:tc>
                  <a:txBody>
                    <a:bodyPr lIns="0" r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Gill Sans MT"/>
                          <a:ea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0f3"/>
                    </a:solidFill>
                  </a:tcPr>
                </a:tc>
              </a:tr>
              <a:tr h="365040">
                <a:tc>
                  <a:txBody>
                    <a:bodyPr lIns="0" r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Gill Sans MT"/>
                          <a:ea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fe6"/>
                    </a:solidFill>
                  </a:tcPr>
                </a:tc>
                <a:tc>
                  <a:txBody>
                    <a:bodyPr lIns="0" r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Gill Sans MT"/>
                          <a:ea typeface="Gill Sans MT"/>
                        </a:rPr>
                        <a:t>4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fe6"/>
                    </a:solidFill>
                  </a:tcPr>
                </a:tc>
              </a:tr>
              <a:tr h="365040">
                <a:tc>
                  <a:txBody>
                    <a:bodyPr lIns="0" r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Gill Sans MT"/>
                          <a:ea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0f3"/>
                    </a:solidFill>
                  </a:tcPr>
                </a:tc>
                <a:tc>
                  <a:txBody>
                    <a:bodyPr lIns="0" r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Gill Sans MT"/>
                          <a:ea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0f3"/>
                    </a:solidFill>
                  </a:tcPr>
                </a:tc>
              </a:tr>
              <a:tr h="365040">
                <a:tc>
                  <a:txBody>
                    <a:bodyPr lIns="0" r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Gill Sans MT"/>
                          <a:ea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fe6"/>
                    </a:solidFill>
                  </a:tcPr>
                </a:tc>
                <a:tc>
                  <a:txBody>
                    <a:bodyPr lIns="0" r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Gill Sans MT"/>
                          <a:ea typeface="Gill Sans MT"/>
                        </a:rPr>
                        <a:t>7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fe6"/>
                    </a:solidFill>
                  </a:tcPr>
                </a:tc>
              </a:tr>
              <a:tr h="365400">
                <a:tc>
                  <a:txBody>
                    <a:bodyPr lIns="0" r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Gill Sans MT"/>
                          <a:ea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0f3"/>
                    </a:solidFill>
                  </a:tcPr>
                </a:tc>
                <a:tc>
                  <a:txBody>
                    <a:bodyPr lIns="0" r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Gill Sans MT"/>
                          <a:ea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0f3"/>
                    </a:solidFill>
                  </a:tcPr>
                </a:tc>
              </a:tr>
            </a:tbl>
          </a:graphicData>
        </a:graphic>
      </p:graphicFrame>
      <p:sp>
        <p:nvSpPr>
          <p:cNvPr id="282" name="Date Placeholder 4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DE62-CD67-43BC-BC92-EA41EA335C26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8920" y="406080"/>
            <a:ext cx="396108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bba"/>
                </a:solidFill>
                <a:latin typeface="Arial"/>
              </a:rPr>
              <a:t>Example (cont.)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object 3"/>
          <p:cNvSpPr/>
          <p:nvPr/>
        </p:nvSpPr>
        <p:spPr>
          <a:xfrm>
            <a:off x="536400" y="1182600"/>
            <a:ext cx="5096160" cy="51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1360" bIns="0" anchor="t">
            <a:spAutoFit/>
          </a:bodyPr>
          <a:p>
            <a:pPr marL="1260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ru-RU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Step 2: Run the descriptive statistics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ru-RU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ru-RU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Analyze </a:t>
            </a:r>
            <a:r>
              <a:rPr b="0" lang="ru-RU" sz="2300" spc="-1" strike="noStrike">
                <a:solidFill>
                  <a:srgbClr val="585866"/>
                </a:solidFill>
                <a:latin typeface="Wingdings"/>
                <a:ea typeface="Wingdings"/>
              </a:rPr>
              <a:t></a:t>
            </a:r>
            <a:r>
              <a:rPr b="0" lang="ru-RU" sz="2300" spc="-1" strike="noStrike">
                <a:solidFill>
                  <a:srgbClr val="585866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585866"/>
                </a:solidFill>
                <a:latin typeface="Gill Sans MT"/>
                <a:ea typeface="Gill Sans MT"/>
              </a:rPr>
              <a:t>Compare Means</a:t>
            </a:r>
            <a:r>
              <a:rPr b="0" lang="ru-RU" sz="2300" spc="-1" strike="noStrike">
                <a:solidFill>
                  <a:srgbClr val="585866"/>
                </a:solidFill>
                <a:latin typeface="Wingdings"/>
                <a:ea typeface="Wingdings"/>
              </a:rPr>
              <a:t></a:t>
            </a:r>
            <a:r>
              <a:rPr b="0" lang="ru-RU" sz="2300" spc="-1" strike="noStrike">
                <a:solidFill>
                  <a:srgbClr val="585866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585866"/>
                </a:solidFill>
                <a:latin typeface="Gill Sans MT"/>
                <a:ea typeface="Gill Sans MT"/>
              </a:rPr>
              <a:t>Means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ru-RU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ru-RU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Anxiety = Dependent List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ru-RU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ru-RU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Stats History = Independent List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ru-RU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ru-RU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Click Options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bcbcbc"/>
                </a:solidFill>
                <a:latin typeface="Wingdings 3"/>
                <a:ea typeface="Wingdings 3"/>
              </a:rPr>
              <a:t></a:t>
            </a:r>
            <a:r>
              <a:rPr b="0" lang="ru-RU" sz="1500" spc="-1" strike="noStrike">
                <a:solidFill>
                  <a:srgbClr val="bcbcb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5f5f5f"/>
                </a:solidFill>
                <a:latin typeface="Gill Sans MT"/>
                <a:ea typeface="Gill Sans MT"/>
              </a:rPr>
              <a:t>Move Median ov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bcbcbc"/>
                </a:solidFill>
                <a:latin typeface="Wingdings 3"/>
                <a:ea typeface="Wingdings 3"/>
              </a:rPr>
              <a:t></a:t>
            </a:r>
            <a:r>
              <a:rPr b="0" lang="ru-RU" sz="1500" spc="-1" strike="noStrike">
                <a:solidFill>
                  <a:srgbClr val="bcbcb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5f5f5f"/>
                </a:solidFill>
                <a:latin typeface="Gill Sans MT"/>
                <a:ea typeface="Gill Sans MT"/>
              </a:rPr>
              <a:t>Move Minimum ov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bcbcbc"/>
                </a:solidFill>
                <a:latin typeface="Wingdings 3"/>
                <a:ea typeface="Wingdings 3"/>
              </a:rPr>
              <a:t></a:t>
            </a:r>
            <a:r>
              <a:rPr b="0" lang="ru-RU" sz="1500" spc="-1" strike="noStrike">
                <a:solidFill>
                  <a:srgbClr val="bcbcb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5f5f5f"/>
                </a:solidFill>
                <a:latin typeface="Gill Sans MT"/>
                <a:ea typeface="Gill Sans MT"/>
              </a:rPr>
              <a:t>Move Maximum ov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ru-RU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ru-RU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Click Continue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ru-RU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ru-RU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Click OK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5" name="Date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EC28-233C-4A1A-AF04-2CB320D56DF0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410508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bba"/>
                </a:solidFill>
                <a:latin typeface="Arial"/>
              </a:rPr>
              <a:t>Example (cont.)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58560" y="1440"/>
            <a:ext cx="6553080" cy="159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500400" bIns="0" anchor="ctr">
            <a:noAutofit/>
          </a:bodyPr>
          <a:p>
            <a:pPr marL="12600" indent="0">
              <a:spcBef>
                <a:spcPts val="99"/>
              </a:spcBef>
              <a:buNone/>
              <a:tabLst>
                <a:tab algn="l" pos="0"/>
                <a:tab algn="l" pos="824076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Example (cont</a:t>
            </a:r>
            <a:r>
              <a:rPr b="0" lang="ru-RU" sz="3600" spc="-1" strike="noStrike">
                <a:solidFill>
                  <a:srgbClr val="585866"/>
                </a:solidFill>
                <a:latin typeface="MS PGothic"/>
                <a:ea typeface="MS PGothic"/>
              </a:rPr>
              <a:t>’</a:t>
            </a: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d)</a:t>
            </a: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288" name="Date Placeholder 2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7ADC-0D4B-4B0D-9D90-F46BE8849916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object 3"/>
          <p:cNvSpPr/>
          <p:nvPr/>
        </p:nvSpPr>
        <p:spPr>
          <a:xfrm>
            <a:off x="539640" y="1700280"/>
            <a:ext cx="744552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spAutoFit/>
          </a:bodyPr>
          <a:p>
            <a:pPr marL="279360" indent="-266760">
              <a:lnSpc>
                <a:spcPts val="3098"/>
              </a:lnSpc>
              <a:spcBef>
                <a:spcPts val="224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Step 3: Create a Histogram for Anxiety with a normal  curve option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279360" indent="-26676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en-US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Graphs </a:t>
            </a:r>
            <a:r>
              <a:rPr b="0" lang="en-US" sz="2300" spc="-1" strike="noStrike">
                <a:solidFill>
                  <a:srgbClr val="585866"/>
                </a:solidFill>
                <a:latin typeface="Wingdings"/>
                <a:ea typeface="Wingdings"/>
              </a:rPr>
              <a:t></a:t>
            </a:r>
            <a:r>
              <a:rPr b="0" lang="en-US" sz="2300" spc="-1" strike="noStrike">
                <a:solidFill>
                  <a:srgbClr val="585866"/>
                </a:solidFill>
                <a:latin typeface="Times New Roman"/>
                <a:ea typeface="Times New Roman"/>
              </a:rPr>
              <a:t> 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Legacy Dialogs </a:t>
            </a:r>
            <a:r>
              <a:rPr b="0" lang="en-US" sz="2300" spc="-1" strike="noStrike">
                <a:solidFill>
                  <a:srgbClr val="585866"/>
                </a:solidFill>
                <a:latin typeface="Wingdings"/>
                <a:ea typeface="Wingdings"/>
              </a:rPr>
              <a:t></a:t>
            </a:r>
            <a:r>
              <a:rPr b="0" lang="en-US" sz="2300" spc="-1" strike="noStrike">
                <a:solidFill>
                  <a:srgbClr val="585866"/>
                </a:solidFill>
                <a:latin typeface="Times New Roman"/>
                <a:ea typeface="Times New Roman"/>
              </a:rPr>
              <a:t> 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Histogram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  <a:p>
            <a:pPr marL="279360" indent="-266760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en-US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Variable = anxiety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  <a:p>
            <a:pPr marL="279360" indent="-26676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en-US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Check the </a:t>
            </a:r>
            <a:r>
              <a:rPr b="0" lang="en-US" sz="2300" spc="-1" strike="noStrike">
                <a:solidFill>
                  <a:srgbClr val="585866"/>
                </a:solidFill>
                <a:latin typeface="MS PGothic"/>
                <a:ea typeface="MS PGothic"/>
              </a:rPr>
              <a:t>“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Display normal curve</a:t>
            </a:r>
            <a:r>
              <a:rPr b="0" lang="en-US" sz="2300" spc="-1" strike="noStrike">
                <a:solidFill>
                  <a:srgbClr val="585866"/>
                </a:solidFill>
                <a:latin typeface="MS PGothic"/>
                <a:ea typeface="MS PGothic"/>
              </a:rPr>
              <a:t>”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check box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  <a:p>
            <a:pPr marL="279360" indent="-266760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en-US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Click Ok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0" name="Date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3AAE-9746-4A2A-9BD5-D859E66F4B3F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388944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bba"/>
                </a:solidFill>
                <a:latin typeface="Arial"/>
              </a:rPr>
              <a:t>Example (cont.)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bject 3"/>
          <p:cNvSpPr/>
          <p:nvPr/>
        </p:nvSpPr>
        <p:spPr>
          <a:xfrm>
            <a:off x="536400" y="1182600"/>
            <a:ext cx="7334280" cy="41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1360" bIns="0" anchor="t">
            <a:spAutoFit/>
          </a:bodyPr>
          <a:p>
            <a:pPr marL="1260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Three measures of central tendency are available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en-US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The Mean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en-US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The Median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en-US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The Mode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ts val="3098"/>
              </a:lnSpc>
              <a:spcBef>
                <a:spcPts val="763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Unfortunately, no single measure of central tendency  works best in all circumstances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en-US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Nor will they necessarily give you the same answer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Date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2934-F324-45CE-8FC9-79A3E2C16BB0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1403280" y="1052640"/>
            <a:ext cx="295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423720"/>
            <a:ext cx="655308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bba"/>
                </a:solidFill>
                <a:latin typeface="Arial"/>
              </a:rPr>
              <a:t>Measures of Central Tendency</a:t>
            </a:r>
            <a:endParaRPr b="1" lang="en-US" sz="3200" spc="-1" strike="noStrike">
              <a:solidFill>
                <a:srgbClr val="042b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-182160"/>
            <a:ext cx="6553080" cy="159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500400" bIns="0" anchor="ctr">
            <a:noAutofit/>
          </a:bodyPr>
          <a:p>
            <a:pPr marL="12600" indent="0">
              <a:spcBef>
                <a:spcPts val="99"/>
              </a:spcBef>
              <a:buNone/>
              <a:tabLst>
                <a:tab algn="l" pos="0"/>
                <a:tab algn="l" pos="824076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Example</a:t>
            </a:r>
            <a:r>
              <a:rPr b="1" lang="ru-RU" sz="3600" spc="-1" strike="noStrike">
                <a:solidFill>
                  <a:srgbClr val="042bba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  <p:sp>
        <p:nvSpPr>
          <p:cNvPr id="100" name="object 3"/>
          <p:cNvSpPr/>
          <p:nvPr/>
        </p:nvSpPr>
        <p:spPr>
          <a:xfrm>
            <a:off x="536400" y="1252440"/>
            <a:ext cx="799164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spAutoFit/>
          </a:bodyPr>
          <a:p>
            <a:pPr marL="279360" indent="-266760">
              <a:lnSpc>
                <a:spcPts val="3098"/>
              </a:lnSpc>
              <a:spcBef>
                <a:spcPts val="224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SAT scores from a sample of 10 college applicants yielded  the following: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84080" y="2136600"/>
          <a:ext cx="2055960" cy="1165320"/>
        </p:xfrm>
        <a:graphic>
          <a:graphicData uri="http://schemas.openxmlformats.org/drawingml/2006/table">
            <a:tbl>
              <a:tblPr/>
              <a:tblGrid>
                <a:gridCol w="1403640"/>
                <a:gridCol w="652320"/>
              </a:tblGrid>
              <a:tr h="330480">
                <a:tc>
                  <a:txBody>
                    <a:bodyPr lIns="0" rIns="0" tIns="0" bIns="0" anchor="t">
                      <a:noAutofit/>
                    </a:bodyPr>
                    <a:p>
                      <a:pPr marL="31680">
                        <a:lnSpc>
                          <a:spcPts val="2599"/>
                        </a:lnSpc>
                        <a:tabLst>
                          <a:tab algn="l" pos="0"/>
                          <a:tab algn="l" pos="303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9fb8cd"/>
                          </a:solidFill>
                          <a:latin typeface="Wingdings 3"/>
                          <a:ea typeface="Wingdings 3"/>
                        </a:rPr>
                        <a:t></a:t>
                      </a:r>
                      <a:r>
                        <a:rPr b="0" lang="en-US" sz="1700" spc="-1" strike="noStrike">
                          <a:solidFill>
                            <a:srgbClr val="9fb8cd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464653"/>
                          </a:solidFill>
                          <a:latin typeface="Gill Sans MT"/>
                          <a:ea typeface="Gill Sans MT"/>
                        </a:rPr>
                        <a:t>Mode:</a:t>
                      </a:r>
                      <a:endParaRPr b="0" lang="en-US" sz="23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464653"/>
                          </a:solidFill>
                          <a:latin typeface="Gill Sans MT"/>
                          <a:ea typeface="Gill Sans MT"/>
                        </a:rPr>
                        <a:t>480</a:t>
                      </a:r>
                      <a:endParaRPr b="0" lang="en-US" sz="23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920">
                <a:tc>
                  <a:txBody>
                    <a:bodyPr lIns="0" rIns="0" tIns="19080" bIns="0" anchor="t">
                      <a:noAutofit/>
                    </a:bodyPr>
                    <a:p>
                      <a:pPr marL="31680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03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9fb8cd"/>
                          </a:solidFill>
                          <a:latin typeface="Wingdings 3"/>
                          <a:ea typeface="Wingdings 3"/>
                        </a:rPr>
                        <a:t></a:t>
                      </a:r>
                      <a:r>
                        <a:rPr b="0" lang="en-US" sz="1700" spc="-1" strike="noStrike">
                          <a:solidFill>
                            <a:srgbClr val="9fb8cd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464653"/>
                          </a:solidFill>
                          <a:latin typeface="Gill Sans MT"/>
                          <a:ea typeface="Gill Sans MT"/>
                        </a:rPr>
                        <a:t>Median:</a:t>
                      </a:r>
                      <a:endParaRPr b="0" lang="en-US" sz="23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908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464653"/>
                          </a:solidFill>
                          <a:latin typeface="Gill Sans MT"/>
                          <a:ea typeface="Gill Sans MT"/>
                        </a:rPr>
                        <a:t>505</a:t>
                      </a:r>
                      <a:endParaRPr b="0" lang="en-US" sz="23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0" rIns="0" tIns="12600" bIns="0" anchor="t">
                      <a:noAutofit/>
                    </a:bodyPr>
                    <a:p>
                      <a:pPr marL="31680">
                        <a:lnSpc>
                          <a:spcPts val="2724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03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9fb8cd"/>
                          </a:solidFill>
                          <a:latin typeface="Wingdings 3"/>
                          <a:ea typeface="Wingdings 3"/>
                        </a:rPr>
                        <a:t></a:t>
                      </a:r>
                      <a:r>
                        <a:rPr b="0" lang="en-US" sz="1700" spc="-1" strike="noStrike">
                          <a:solidFill>
                            <a:srgbClr val="9fb8cd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300" spc="-1" strike="noStrike">
                          <a:solidFill>
                            <a:srgbClr val="464653"/>
                          </a:solidFill>
                          <a:latin typeface="Gill Sans MT"/>
                          <a:ea typeface="Gill Sans MT"/>
                        </a:rPr>
                        <a:t>Mean:</a:t>
                      </a:r>
                      <a:endParaRPr b="0" lang="en-US" sz="23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2600" bIns="0" anchor="t">
                      <a:noAutofit/>
                    </a:bodyPr>
                    <a:p>
                      <a:pPr algn="r">
                        <a:lnSpc>
                          <a:spcPts val="2724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464653"/>
                          </a:solidFill>
                          <a:latin typeface="Gill Sans MT"/>
                          <a:ea typeface="Gill Sans MT"/>
                        </a:rPr>
                        <a:t>526</a:t>
                      </a:r>
                      <a:endParaRPr b="0" lang="en-US" sz="23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object 5"/>
          <p:cNvSpPr/>
          <p:nvPr/>
        </p:nvSpPr>
        <p:spPr>
          <a:xfrm>
            <a:off x="536400" y="3360600"/>
            <a:ext cx="78933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ru-RU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Which measure of central tendency is most appropriate?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Date Placeholder 5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6856-67B4-4B61-8A87-C504A675316B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object 3"/>
          <p:cNvSpPr/>
          <p:nvPr/>
        </p:nvSpPr>
        <p:spPr>
          <a:xfrm>
            <a:off x="536400" y="1177920"/>
            <a:ext cx="7718760" cy="38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spAutoFit/>
          </a:bodyPr>
          <a:p>
            <a:pPr marL="12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The mean is simply the arithmetic average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ts val="3098"/>
              </a:lnSpc>
              <a:spcBef>
                <a:spcPts val="70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The mean would be the amount that each individual  would get if we took the total and divided it up equally  among everyone in the sample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1000"/>
              </a:lnSpc>
              <a:spcBef>
                <a:spcPts val="4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Alternatively, the mean can be viewed as the balancing  point in the distribution of scores (i.e., the distances for  the scores above and below the mean cancel out)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C202-85E8-4E63-A916-8FCFC0566DFD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324000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bba"/>
                </a:solidFill>
                <a:latin typeface="Arial"/>
              </a:rPr>
              <a:t>The Mean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bject 3"/>
          <p:cNvSpPr/>
          <p:nvPr/>
        </p:nvSpPr>
        <p:spPr>
          <a:xfrm>
            <a:off x="536400" y="1252440"/>
            <a:ext cx="797112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spAutoFit/>
          </a:bodyPr>
          <a:p>
            <a:pPr marL="279360" indent="-266760">
              <a:lnSpc>
                <a:spcPts val="3098"/>
              </a:lnSpc>
              <a:spcBef>
                <a:spcPts val="224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The median is the score that splits the distribution  exactly in half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279360" indent="-266760">
              <a:lnSpc>
                <a:spcPts val="3098"/>
              </a:lnSpc>
              <a:spcBef>
                <a:spcPts val="60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50% of the scores fall above the median and 50% fall  below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279360" indent="-266760">
              <a:lnSpc>
                <a:spcPct val="103000"/>
              </a:lnSpc>
              <a:spcBef>
                <a:spcPts val="40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The median is also known as the 50th percentile, because  it is the score at which 50% of the people fall below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7B1E-5D70-4EE4-B88F-DE722B1AF64F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302580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bba"/>
                </a:solidFill>
                <a:latin typeface="Arial"/>
              </a:rPr>
              <a:t>The Median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object 3"/>
          <p:cNvSpPr/>
          <p:nvPr/>
        </p:nvSpPr>
        <p:spPr>
          <a:xfrm>
            <a:off x="536400" y="1252440"/>
            <a:ext cx="7971120" cy="38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ts val="3112"/>
              </a:lnSpc>
              <a:spcBef>
                <a:spcPts val="9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ru-RU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A desirable characteristic of the median is that it is </a:t>
            </a:r>
            <a:r>
              <a:rPr b="1" lang="ru-RU" sz="2600" spc="-1" strike="noStrike">
                <a:solidFill>
                  <a:srgbClr val="0070c0"/>
                </a:solidFill>
                <a:latin typeface="Gill Sans MT"/>
                <a:ea typeface="Gill Sans MT"/>
              </a:rPr>
              <a:t>not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ts val="3112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affected by extreme scores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ru-RU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Example: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ru-RU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ru-RU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Sample 1: 18, 19, 20, 22, 24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fb8cd"/>
                </a:solidFill>
                <a:latin typeface="Wingdings 3"/>
                <a:ea typeface="Wingdings 3"/>
              </a:rPr>
              <a:t></a:t>
            </a:r>
            <a:r>
              <a:rPr b="0" lang="ru-RU" sz="1700" spc="-1" strike="noStrike">
                <a:solidFill>
                  <a:srgbClr val="9fb8cd"/>
                </a:solidFill>
                <a:latin typeface="Times New Roman"/>
                <a:ea typeface="Times New Roman"/>
              </a:rPr>
              <a:t>	</a:t>
            </a:r>
            <a:r>
              <a:rPr b="0" lang="ru-RU" sz="2300" spc="-1" strike="noStrike">
                <a:solidFill>
                  <a:srgbClr val="464653"/>
                </a:solidFill>
                <a:latin typeface="Gill Sans MT"/>
                <a:ea typeface="Gill Sans MT"/>
              </a:rPr>
              <a:t>Sample 2: 18, 19, 20, 22, 47</a:t>
            </a:r>
            <a:endParaRPr b="0" lang="en-US" sz="23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ru-RU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Thus, the median is not distorted by skewed distributions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1D41-8CEA-4410-B122-06131F6129C1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360180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bba"/>
                </a:solidFill>
                <a:latin typeface="Arial"/>
              </a:rPr>
              <a:t>Special Notes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bject 3"/>
          <p:cNvSpPr/>
          <p:nvPr/>
        </p:nvSpPr>
        <p:spPr>
          <a:xfrm>
            <a:off x="536400" y="1177920"/>
            <a:ext cx="779328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spAutoFit/>
          </a:bodyPr>
          <a:p>
            <a:pPr marL="12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The mode is simply the most common score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There is no formula for the mode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ts val="3098"/>
              </a:lnSpc>
              <a:spcBef>
                <a:spcPts val="70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When using a frequency distribution, the mode is simply  the score (or interval) that has the highest frequency  value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12600">
              <a:lnSpc>
                <a:spcPts val="3098"/>
              </a:lnSpc>
              <a:spcBef>
                <a:spcPts val="70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27ca3"/>
                </a:solidFill>
                <a:latin typeface="Wingdings 3"/>
                <a:ea typeface="Wingdings 3"/>
              </a:rPr>
              <a:t>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727ca3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5f5f5f"/>
                </a:solidFill>
                <a:latin typeface="Gill Sans MT"/>
                <a:ea typeface="Gill Sans MT"/>
              </a:rPr>
              <a:t>When using a histogram, the mode is the score (or  interval) that corresponds to the tallest bar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7331-BBF1-4ABB-ACF5-ED1A53E5F3BB}" type="datetime">
              <a:rPr b="0" lang="en-US" sz="18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309708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bba"/>
                </a:solidFill>
                <a:latin typeface="Arial"/>
              </a:rPr>
              <a:t>The Mode</a:t>
            </a:r>
            <a:endParaRPr b="1" lang="en-US" sz="3600" spc="-1" strike="noStrike">
              <a:solidFill>
                <a:srgbClr val="042bb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4:03:21Z</dcterms:created>
  <dc:creator>-</dc:creator>
  <dc:description/>
  <dc:language>en-US</dc:language>
  <cp:lastModifiedBy>Simon, David S</cp:lastModifiedBy>
  <dcterms:modified xsi:type="dcterms:W3CDTF">2021-08-17T16:00:59Z</dcterms:modified>
  <cp:revision>138</cp:revision>
  <dc:subject/>
  <dc:title>Name of presentation</dc:title>
</cp:coreProperties>
</file>